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applause.wav" ContentType="audio/x-wav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3E6-B85E-47D3-91AD-ED88911E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DA5-1CA5-4CC1-A9D5-4C5B023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0F9-EF80-4C00-ABA7-CF48C413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0DF-48D0-4D29-A66F-1258CF62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B1C-E110-4E9F-B5B1-815B94A4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D41-271C-44BF-B306-224B6342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5B3-7D64-4FCF-AAC1-52E23B72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102-0A17-4CE6-9877-6281288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ECF-C591-4738-A399-D346C04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326-D7D7-4B19-BFA6-71653F5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22B-4B18-4E60-8027-2B8914A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451-E7A9-4FF8-9066-F79D023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B614-508A-41CC-A924-DEBAC879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Users/Administrator/Desktop/&#21457;&#23556;&#28779;&#31661;.wm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C:/Users/Administrator/Desktop/&#21015;&#36710;&#36827;&#31449;.wm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Users/Administrator/Desktop/5.wmv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1628640"/>
            <a:ext cx="6769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力与运动的关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2060640"/>
            <a:ext cx="4032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射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火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动变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因为火箭受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作用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58920" y="8715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考考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03280" y="2637000"/>
            <a:ext cx="6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484360" y="321300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推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发射火箭.wmv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41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列车进站.wmv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7343640" cy="4530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6648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考考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09800" y="5310360"/>
            <a:ext cx="61912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站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火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因为火车受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867280" y="5229360"/>
            <a:ext cx="6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Arial"/>
                <a:ea typeface="楷体_GB2312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33200" y="5799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Arial"/>
                <a:ea typeface="楷体_GB2312"/>
              </a:rPr>
              <a:t>阻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"/>
          <p:cNvPicPr/>
          <p:nvPr/>
        </p:nvPicPr>
        <p:blipFill>
          <a:blip r:embed="rId1"/>
          <a:stretch/>
        </p:blipFill>
        <p:spPr>
          <a:xfrm>
            <a:off x="1547640" y="907920"/>
            <a:ext cx="6696360" cy="4130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692360" y="497052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桌上滚下的小球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生了改变，运动方向发生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为小球受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665680" y="5442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16360" y="587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19120" y="5032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86000" y="3016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332000" y="15876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试一试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看谁的“悟”得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58520" y="4938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速度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16000" y="5013360"/>
            <a:ext cx="7777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速度大小发生了改变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</a:t>
            </a:r>
            <a:r>
              <a:rPr b="1" lang="zh-CN" sz="3200" spc="-1" strike="noStrike" u="sng">
                <a:solidFill>
                  <a:srgbClr val="00b050"/>
                </a:solidFill>
                <a:uFillTx/>
                <a:latin typeface="Arial"/>
              </a:rPr>
              <a:t>足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发生了改变，这是因为足球受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7640" y="5457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运动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979640" y="59450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46000" y="8460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846000" y="692280"/>
            <a:ext cx="7856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39640" y="3068640"/>
            <a:ext cx="83534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  <a:ea typeface="楷体"/>
              </a:rPr>
              <a:t>大量的实验和研究表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"/>
              </a:rPr>
              <a:t>力是改变物体运动状态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55640" y="1557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判断物体受到力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42920" y="508464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力的作用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36528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13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形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945040" y="321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运动状态的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692360" y="3357720"/>
            <a:ext cx="1584360" cy="126720"/>
          </a:xfrm>
          <a:prstGeom prst="leftArrow">
            <a:avLst>
              <a:gd name="adj1" fmla="val 50000"/>
              <a:gd name="adj2" fmla="val 3125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rot="10800000">
            <a:off x="1763280" y="3573000"/>
            <a:ext cx="1584360" cy="127080"/>
          </a:xfrm>
          <a:prstGeom prst="leftArrow">
            <a:avLst>
              <a:gd name="adj1" fmla="val 50000"/>
              <a:gd name="adj2" fmla="val 3116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780000" y="3573360"/>
            <a:ext cx="1584000" cy="127080"/>
          </a:xfrm>
          <a:prstGeom prst="leftArrow">
            <a:avLst>
              <a:gd name="adj1" fmla="val 50000"/>
              <a:gd name="adj2" fmla="val 3116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 rot="10800000">
            <a:off x="3850920" y="3357720"/>
            <a:ext cx="1584360" cy="126720"/>
          </a:xfrm>
          <a:prstGeom prst="leftArrow">
            <a:avLst>
              <a:gd name="adj1" fmla="val 50000"/>
              <a:gd name="adj2" fmla="val 3125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91908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一赛，看谁先“理解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600440" y="1440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211640" y="52293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103720" y="19828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4932360" y="47260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628600" y="451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物体形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791320" y="5657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运动状态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36003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竖直方向受到一对平衡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叠石3"/>
          <p:cNvPicPr/>
          <p:nvPr/>
        </p:nvPicPr>
        <p:blipFill>
          <a:blip r:embed="rId1"/>
          <a:stretch/>
        </p:blipFill>
        <p:spPr>
          <a:xfrm>
            <a:off x="755640" y="1916280"/>
            <a:ext cx="3705120" cy="25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火车"/>
          <p:cNvPicPr/>
          <p:nvPr/>
        </p:nvPicPr>
        <p:blipFill>
          <a:blip r:embed="rId2"/>
          <a:stretch/>
        </p:blipFill>
        <p:spPr>
          <a:xfrm>
            <a:off x="4643280" y="1916280"/>
            <a:ext cx="3637080" cy="249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84360" y="4365720"/>
            <a:ext cx="35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静止的叠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003640" y="43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匀速行驶的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39640" y="48340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上图中物体受到的两个力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方向力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改变物体的运动状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，它们的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互抵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06920" y="1270080"/>
            <a:ext cx="371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"/>
              </a:rPr>
              <a:t>水平方向受到一对平衡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68360" y="47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受到平衡力时，运动状态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820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物体受到的力不满足平衡条件时，运动状态怎样改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26920" y="2781360"/>
            <a:ext cx="7464600" cy="1017360"/>
            <a:chOff x="826920" y="2781360"/>
            <a:chExt cx="7464600" cy="1017360"/>
          </a:xfrm>
        </p:grpSpPr>
        <p:pic>
          <p:nvPicPr>
            <p:cNvPr id="141" name="Picture 4" descr="12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157800" y="2781360"/>
              <a:ext cx="2133720" cy="101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Group 5"/>
            <p:cNvGrpSpPr/>
            <p:nvPr/>
          </p:nvGrpSpPr>
          <p:grpSpPr>
            <a:xfrm>
              <a:off x="3170160" y="3260520"/>
              <a:ext cx="1066680" cy="151920"/>
              <a:chOff x="3170160" y="3260520"/>
              <a:chExt cx="1066680" cy="15192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3170160" y="32605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3322440" y="3336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3493800" y="2823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826920" y="3204720"/>
              <a:ext cx="1828800" cy="459720"/>
            </a:xfrm>
            <a:prstGeom prst="rect">
              <a:avLst/>
            </a:prstGeom>
            <a:solidFill>
              <a:srgbClr val="faba7a"/>
            </a:solidFill>
            <a:ln w="9360">
              <a:solidFill>
                <a:srgbClr val="fab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80bbb"/>
                  </a:solidFill>
                  <a:latin typeface="Times New Roman"/>
                </a:rPr>
                <a:t>一个力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826920" y="1628640"/>
            <a:ext cx="7561440" cy="1152360"/>
            <a:chOff x="826920" y="1628640"/>
            <a:chExt cx="7561440" cy="1152360"/>
          </a:xfrm>
        </p:grpSpPr>
        <p:pic>
          <p:nvPicPr>
            <p:cNvPr id="148" name="Picture 11" descr="2"/>
            <p:cNvPicPr/>
            <p:nvPr/>
          </p:nvPicPr>
          <p:blipFill>
            <a:blip r:embed="rId2"/>
            <a:stretch/>
          </p:blipFill>
          <p:spPr>
            <a:xfrm>
              <a:off x="5219640" y="1628640"/>
              <a:ext cx="31240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2"/>
            <p:cNvSpPr/>
            <p:nvPr/>
          </p:nvSpPr>
          <p:spPr>
            <a:xfrm>
              <a:off x="3419280" y="162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826920" y="1917720"/>
              <a:ext cx="1800360" cy="459720"/>
            </a:xfrm>
            <a:prstGeom prst="rect">
              <a:avLst/>
            </a:prstGeom>
            <a:solidFill>
              <a:srgbClr val="fab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80bbb"/>
                  </a:solidFill>
                  <a:latin typeface="Times New Roman"/>
                </a:rPr>
                <a:t>一个力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451640" y="1628640"/>
              <a:ext cx="93672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"/>
            <p:cNvSpPr/>
            <p:nvPr/>
          </p:nvSpPr>
          <p:spPr>
            <a:xfrm>
              <a:off x="7164360" y="2420640"/>
              <a:ext cx="43164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4068720" y="2133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 flipH="1">
              <a:off x="3132000" y="2205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8"/>
          <p:cNvSpPr/>
          <p:nvPr/>
        </p:nvSpPr>
        <p:spPr>
          <a:xfrm>
            <a:off x="5435640" y="1268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0930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0"/>
          <p:cNvGrpSpPr/>
          <p:nvPr/>
        </p:nvGrpSpPr>
        <p:grpSpPr>
          <a:xfrm>
            <a:off x="826920" y="5373720"/>
            <a:ext cx="7553160" cy="1109520"/>
            <a:chOff x="826920" y="5373720"/>
            <a:chExt cx="7553160" cy="1109520"/>
          </a:xfrm>
        </p:grpSpPr>
        <p:pic>
          <p:nvPicPr>
            <p:cNvPr id="158" name="Picture 21" descr="2"/>
            <p:cNvPicPr/>
            <p:nvPr/>
          </p:nvPicPr>
          <p:blipFill>
            <a:blip r:embed="rId3"/>
            <a:stretch/>
          </p:blipFill>
          <p:spPr>
            <a:xfrm>
              <a:off x="5256000" y="5373720"/>
              <a:ext cx="3124080" cy="110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22"/>
            <p:cNvGrpSpPr/>
            <p:nvPr/>
          </p:nvGrpSpPr>
          <p:grpSpPr>
            <a:xfrm>
              <a:off x="2728440" y="5373720"/>
              <a:ext cx="609840" cy="510120"/>
              <a:chOff x="2728440" y="5373720"/>
              <a:chExt cx="609840" cy="510120"/>
            </a:xfrm>
          </p:grpSpPr>
          <p:sp>
            <p:nvSpPr>
              <p:cNvPr id="160" name="Line 23"/>
              <p:cNvSpPr/>
              <p:nvPr/>
            </p:nvSpPr>
            <p:spPr>
              <a:xfrm flipH="1">
                <a:off x="2728440" y="5830920"/>
                <a:ext cx="609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4"/>
              <p:cNvSpPr/>
              <p:nvPr/>
            </p:nvSpPr>
            <p:spPr>
              <a:xfrm>
                <a:off x="2805120" y="53737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25"/>
            <p:cNvGrpSpPr/>
            <p:nvPr/>
          </p:nvGrpSpPr>
          <p:grpSpPr>
            <a:xfrm>
              <a:off x="3262320" y="5373720"/>
              <a:ext cx="1066680" cy="533160"/>
              <a:chOff x="3262320" y="5373720"/>
              <a:chExt cx="1066680" cy="533160"/>
            </a:xfrm>
          </p:grpSpPr>
          <p:sp>
            <p:nvSpPr>
              <p:cNvPr id="163" name="Text Box 26"/>
              <p:cNvSpPr/>
              <p:nvPr/>
            </p:nvSpPr>
            <p:spPr>
              <a:xfrm>
                <a:off x="3643200" y="537372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27"/>
              <p:cNvGrpSpPr/>
              <p:nvPr/>
            </p:nvGrpSpPr>
            <p:grpSpPr>
              <a:xfrm>
                <a:off x="3262320" y="5754600"/>
                <a:ext cx="1066680" cy="152280"/>
                <a:chOff x="3262320" y="5754600"/>
                <a:chExt cx="1066680" cy="152280"/>
              </a:xfrm>
            </p:grpSpPr>
            <p:sp>
              <p:nvSpPr>
                <p:cNvPr id="165" name="Oval 28"/>
                <p:cNvSpPr/>
                <p:nvPr/>
              </p:nvSpPr>
              <p:spPr>
                <a:xfrm>
                  <a:off x="3262320" y="575460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9"/>
                <p:cNvSpPr/>
                <p:nvPr/>
              </p:nvSpPr>
              <p:spPr>
                <a:xfrm>
                  <a:off x="3414600" y="5830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Text Box 30"/>
            <p:cNvSpPr/>
            <p:nvPr/>
          </p:nvSpPr>
          <p:spPr>
            <a:xfrm>
              <a:off x="826920" y="5661000"/>
              <a:ext cx="1800360" cy="459720"/>
            </a:xfrm>
            <a:prstGeom prst="rect">
              <a:avLst/>
            </a:prstGeom>
            <a:solidFill>
              <a:srgbClr val="fab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80bbb"/>
                  </a:solidFill>
                  <a:latin typeface="Times New Roman"/>
                </a:rPr>
                <a:t>二个力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31"/>
          <p:cNvGrpSpPr/>
          <p:nvPr/>
        </p:nvGrpSpPr>
        <p:grpSpPr>
          <a:xfrm>
            <a:off x="826920" y="3968640"/>
            <a:ext cx="7516800" cy="1146240"/>
            <a:chOff x="826920" y="3968640"/>
            <a:chExt cx="7516800" cy="1146240"/>
          </a:xfrm>
        </p:grpSpPr>
        <p:pic>
          <p:nvPicPr>
            <p:cNvPr id="169" name="Picture 32" descr="2"/>
            <p:cNvPicPr/>
            <p:nvPr/>
          </p:nvPicPr>
          <p:blipFill>
            <a:blip r:embed="rId4"/>
            <a:stretch/>
          </p:blipFill>
          <p:spPr>
            <a:xfrm>
              <a:off x="5219640" y="4005000"/>
              <a:ext cx="31240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Line 33"/>
            <p:cNvSpPr/>
            <p:nvPr/>
          </p:nvSpPr>
          <p:spPr>
            <a:xfrm flipH="1">
              <a:off x="2771640" y="4437000"/>
              <a:ext cx="93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4"/>
            <p:cNvSpPr/>
            <p:nvPr/>
          </p:nvSpPr>
          <p:spPr>
            <a:xfrm>
              <a:off x="2879640" y="3968640"/>
              <a:ext cx="81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4068720" y="3968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6"/>
            <p:cNvSpPr/>
            <p:nvPr/>
          </p:nvSpPr>
          <p:spPr>
            <a:xfrm>
              <a:off x="3708360" y="4365360"/>
              <a:ext cx="142920" cy="17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3816360" y="4437000"/>
              <a:ext cx="55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8"/>
            <p:cNvSpPr/>
            <p:nvPr/>
          </p:nvSpPr>
          <p:spPr>
            <a:xfrm>
              <a:off x="826920" y="4294080"/>
              <a:ext cx="1800360" cy="459720"/>
            </a:xfrm>
            <a:prstGeom prst="rect">
              <a:avLst/>
            </a:prstGeom>
            <a:solidFill>
              <a:srgbClr val="fab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80bbb"/>
                  </a:solidFill>
                  <a:latin typeface="Times New Roman"/>
                </a:rPr>
                <a:t>二个力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74640" y="549000"/>
            <a:ext cx="647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物体受到的力不满足平衡条件时，运动状态怎样改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34640" y="1916280"/>
            <a:ext cx="7559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物体受到的牵引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阻力时，物体做加速运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物体受到的牵引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阻力时，物体做减速运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物体受到的力与运动方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，物体改变运动方向（曲线运动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356000" y="278136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932360" y="35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不在一条直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383000" y="19162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4000" y="871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36939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物体受平衡力作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295960" y="21319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保持匀速直线运动状态或静止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11280" y="23986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物体不受力作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308560" y="342756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保持匀速直线运动状态或静止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900000" y="48672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物体受非平衡力作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257800" y="487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物体的运动状态发生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648320" y="255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648320" y="377028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4648320" y="511344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197080" y="5619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581120" y="549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一赛，看谁先“理解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19200" y="56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828720" y="693720"/>
            <a:ext cx="33526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的目标</a:t>
            </a:r>
            <a:endParaRPr b="1" lang="en-US" sz="6600" spc="1" strike="noStrike">
              <a:ln w="12600">
                <a:solidFill>
                  <a:srgbClr val="ff66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28720" y="198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知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物体运动状态的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548240" y="4381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939480" y="3357720"/>
            <a:ext cx="21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认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可以改变物体运动状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55640" y="4221000"/>
            <a:ext cx="76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知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受力不平衡时运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状态如何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5181480" y="4869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受非平衡力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826920" y="4581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物体的运动状态发生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181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受平衡力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84360" y="2349360"/>
            <a:ext cx="296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物体保持匀速直线运动状态或静止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181480" y="326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或不受力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572000" y="24382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4419720" y="49528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383720" y="925560"/>
            <a:ext cx="24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一赛，看谁先“理解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27520" y="17827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3635280" y="290340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68360" y="2273400"/>
            <a:ext cx="83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竖直向上抛出一个物体，在上升过程中，不考虑空气阻力，该物体受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力的作用，它的运动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选填“改变”或“不改变”）；当它上升到最高点时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选填“能”或“不能”）保持静止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332000" y="5373720"/>
            <a:ext cx="71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物体受非平衡力作用时运动状态发生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493040" y="2171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943600" y="26924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195640" y="3789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274560" y="81612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，看谁“掌握”得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80880" y="21168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踢出去的足球在地面上向前滚动时，受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力的作用，它的运动状态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选填“改变”或“不改变”，不考虑空气阻力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501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物体受非平衡力作用时运动状态发生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00400" y="20890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摩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715000" y="2695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381120" y="86832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，看谁“掌握”得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81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以下所给出的现象中，物体运动状态不发生改变的是    （ 　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在弯曲的路上汽车匀速转弯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小孩沿笔直的滑梯匀速下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熟透的苹果从树上下落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行驶的火车开始进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508720" y="19890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41080" y="69228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，看谁“掌握”得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98320" y="10857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806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面关于力学现象的解释中正确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球在空中下落得越来越快，是因为力可以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物体的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用力推车，车未动，是因为推力小于摩擦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孩从滑梯上自行下滑，是因为他受到惯性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书本静止在课桌上，是因为书本的重力与书本对桌面的压力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588000" y="142236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98520" y="69228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，看谁“掌握”得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39720" y="10065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95280" y="148428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一热气球以一定的速度匀速竖直上升到某一高度时，从热气球里掉出一个物体，这个物体离开热气球后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继续上升一段距离，然后下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立即下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以原来的速度永远上升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以上说法都不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588000" y="251604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458880" y="62064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一练，看谁“掌握”得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89120" y="622440"/>
            <a:ext cx="97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11280" y="2500200"/>
            <a:ext cx="85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右图所示，水平桌面的右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定一定滑轮，轻质小盘通过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绕过定滑轮的细绳与桌面上质量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4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木块相连。当小盘内放有重力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砝码时，木块未被拉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时木块受到的摩擦力大小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小盘内放有重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6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砝码时，木块正好作匀速运动，当小盘内放上重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砝码时，小盘将拖动木块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匀速或变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线运动，当小盘落在地面上后，木块继续运动，此时木块所受到的摩擦力大小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不计绳重及绳与滑轮的摩擦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2869966_fc2dff43fe521cf8d71f1191e8f791dc"/>
          <p:cNvPicPr/>
          <p:nvPr/>
        </p:nvPicPr>
        <p:blipFill>
          <a:blip r:embed="rId1"/>
          <a:stretch/>
        </p:blipFill>
        <p:spPr>
          <a:xfrm>
            <a:off x="6227640" y="549360"/>
            <a:ext cx="2743200" cy="2208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5867280" y="3357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96360" y="508464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900000" y="549360"/>
            <a:ext cx="51055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点的应用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8009640" y="436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变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39640" y="1889280"/>
            <a:ext cx="814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图所示，物体在水平拉力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用下沿光滑水平面向右做运动，当拉力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逐渐减小时，物体的速度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不变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增大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减小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都有可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3886200" y="4038480"/>
            <a:ext cx="4724280" cy="2133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 flipH="1">
            <a:off x="6011280" y="28526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1752480" y="45720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点的应用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826920" y="2835360"/>
            <a:ext cx="807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用大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一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木块压在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墙壁上，木块恰好沿墙壁匀速下滑，则木块受到的摩擦力大小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压力变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木块保持静止，则木块受到的摩擦力大小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若继续增大压力，木块受到的摩擦力大小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选填“变大”、 “变小”或“不变”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948360" y="692280"/>
            <a:ext cx="1812960" cy="2590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916360" y="46530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3280" y="5157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611280" y="765000"/>
            <a:ext cx="57909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识点的应用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219640" y="3716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00200" y="1676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10d4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2710d4"/>
                </a:solidFill>
                <a:latin typeface="Arial"/>
              </a:rPr>
              <a:t>祝愿</a:t>
            </a:r>
            <a:r>
              <a:rPr b="1" lang="zh-CN" sz="3600" spc="-1" strike="noStrike">
                <a:solidFill>
                  <a:srgbClr val="2710d4"/>
                </a:solidFill>
                <a:latin typeface="Arial"/>
                <a:ea typeface="楷体_GB2312"/>
              </a:rPr>
              <a:t>同学们今天有所收获，在今后的日子中心想事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3048120" y="3124080"/>
            <a:ext cx="4572000" cy="2932200"/>
            <a:chOff x="3048120" y="3124080"/>
            <a:chExt cx="4572000" cy="2932200"/>
          </a:xfrm>
        </p:grpSpPr>
        <p:pic>
          <p:nvPicPr>
            <p:cNvPr id="249" name="Picture 4" descr="PE03166_"/>
            <p:cNvPicPr/>
            <p:nvPr/>
          </p:nvPicPr>
          <p:blipFill>
            <a:blip r:embed="rId1"/>
            <a:stretch/>
          </p:blipFill>
          <p:spPr>
            <a:xfrm>
              <a:off x="3048120" y="3581280"/>
              <a:ext cx="274320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5"/>
            <p:cNvSpPr/>
            <p:nvPr/>
          </p:nvSpPr>
          <p:spPr>
            <a:xfrm>
              <a:off x="4876920" y="3124080"/>
              <a:ext cx="2743200" cy="990720"/>
            </a:xfrm>
            <a:prstGeom prst="cloudCallout">
              <a:avLst>
                <a:gd name="adj1" fmla="val -44962"/>
                <a:gd name="adj2" fmla="val 669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我们一定行的！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39640" y="14011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个物体在一对平衡力的作用下，沿光滑水平面做匀速直线运动，当它受到的力全部消失，则物体将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即停止运动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速度越来越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度减慢，最后停止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做匀速直线运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42920" y="5084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运动的物体不受力作用时保持匀速直线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84720" y="2205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58920" y="333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，看谁的“懂”得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15710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物体静止在水平桌面上，当它受到的外力全部消失突然消失，则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保持静止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速度越来越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速度越来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匀速直线运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5013360"/>
            <a:ext cx="79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静止的物体不受力作用时保持静止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81960" y="20955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92360" y="476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，看谁的“懂”得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523880" y="28954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217800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质量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0 k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中学生，站在地面上静止不动，他受到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力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力的作用，这两个力的关系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2240" y="352728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42920" y="4941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保持静止状态的物体受到的是平衡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81680" y="2492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57200" y="317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787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平衡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53080" y="78912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，看谁的“懂”得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24000" y="804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62120" y="160020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吊车吊着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00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集装箱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／秒速度匀速上升，吊车要给集装箱的拉力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如果集装箱变为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／秒速度匀速水平运动，吊车要给集装箱的拉力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03280" y="537372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知识链接：物体保持匀速直线运动状态，受到的是平衡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876920" y="27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4648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617280" y="62064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比，看谁的“懂”得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43280" y="2190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绵发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改变，它受到了＿＿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16720" y="21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391880" y="2624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643280" y="2190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绵发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改变，它受到了＿＿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3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66720" y="6667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187280" y="6904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考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211640" y="170028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由静到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动到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快变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慢变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方向发生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66720" y="6667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3280" y="66672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96720" y="240660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物体运动状态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37040" y="463392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132000" y="290340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610080" y="491976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 rot="60000">
            <a:off x="3968280" y="2058840"/>
            <a:ext cx="155520" cy="1944720"/>
          </a:xfrm>
          <a:custGeom>
            <a:avLst/>
            <a:gdLst>
              <a:gd name="textAreaLeft" fmla="*/ 99360 w 155520"/>
              <a:gd name="textAreaRight" fmla="*/ 155520 w 1555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"/>
          <p:cNvPicPr/>
          <p:nvPr/>
        </p:nvPicPr>
        <p:blipFill>
          <a:blip r:embed="rId1"/>
          <a:stretch/>
        </p:blipFill>
        <p:spPr>
          <a:xfrm>
            <a:off x="6372360" y="1197000"/>
            <a:ext cx="2388960" cy="5329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57200" y="26370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下落的小球运动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为小球受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52640" y="3551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666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84360" y="549360"/>
            <a:ext cx="64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试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看谁的“悟”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l.12999.com</dc:creator>
  <dc:description>wl.12999.com</dc:description>
  <cp:keywords>wl.12999.com</cp:keywords>
  <dc:language>en-US</dc:language>
  <cp:lastModifiedBy>User</cp:lastModifiedBy>
  <dcterms:modified xsi:type="dcterms:W3CDTF">2017-06-30T14:11:07Z</dcterms:modified>
  <cp:revision>1</cp:revision>
  <dc:subject>wl.12999.com</dc:subject>
  <dc:title>wl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