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4.jpeg" ContentType="image/jpeg"/>
  <Override PartName="/ppt/media/image25.png" ContentType="image/png"/>
  <Override PartName="/ppt/media/image2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png" ContentType="image/pn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DB54-9BB3-4824-8E9E-89AF336B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D82F-4FEC-4D09-852C-4044C083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F114-782C-448C-9913-8A096CCA9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24DE-F2E8-4856-81FC-984496D09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F324-4D22-4670-99AD-D3D5C4EA2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2390-6050-462A-A3C6-FB633DBE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CCDA-CFEA-4F08-89E1-1A220378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5E06-F253-4C85-8C39-B92D27ED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6350-B6F3-4FA3-A453-BA73B833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A060-47EE-45C5-936F-0A202F79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B5BD-C57D-4B8A-94D1-A64EB8E8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ED29-6004-433E-B16D-E62EF8E5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FE96-1564-40B6-ACEE-0F57000B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29A3-F05B-4326-98E7-9E5BAB33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0866-A566-4B66-8727-19485C35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E0C1-EC91-46BA-9ACB-49C95FF9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ABD9-7B70-4BCF-8D44-F747D030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3B2D-6272-42BF-B725-0BC3B5A4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D72C-DFF6-4DBE-A588-ED65936D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E8D7-6531-434A-B14F-38D329AC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1F52-69CE-4252-836B-71BF925A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1759-BCCE-4395-A77E-9CAC9FCF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082D-5CDE-464A-8BE3-FB240D72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FB09-F575-4F63-A6F0-5EF20001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D6EF-E6D8-45A1-ACBD-317A350434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9BF8-DD31-4AD5-9BB4-B7D2670601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8" descr=""/>
          <p:cNvPicPr/>
          <p:nvPr/>
        </p:nvPicPr>
        <p:blipFill>
          <a:blip r:embed="rId3"/>
          <a:stretch/>
        </p:blipFill>
        <p:spPr>
          <a:xfrm>
            <a:off x="0" y="1009800"/>
            <a:ext cx="9144000" cy="347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8" descr=""/>
          <p:cNvPicPr/>
          <p:nvPr/>
        </p:nvPicPr>
        <p:blipFill>
          <a:blip r:embed="rId3"/>
          <a:stretch/>
        </p:blipFill>
        <p:spPr>
          <a:xfrm>
            <a:off x="0" y="1009800"/>
            <a:ext cx="9144000" cy="3474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24.png"/><Relationship Id="rId4" Type="http://schemas.openxmlformats.org/officeDocument/2006/relationships/image" Target="../media/image9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image" Target="../media/image5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5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5"/>
          <p:cNvSpPr/>
          <p:nvPr/>
        </p:nvSpPr>
        <p:spPr>
          <a:xfrm>
            <a:off x="1692360" y="2394000"/>
            <a:ext cx="6410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热运动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973080" y="1898640"/>
            <a:ext cx="350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第十三章 第</a:t>
            </a:r>
            <a:r>
              <a:rPr b="1" lang="zh-CN" sz="3200" spc="-1" strike="noStrike">
                <a:solidFill>
                  <a:srgbClr val="111111"/>
                </a:solidFill>
                <a:latin typeface="Times New Roman"/>
                <a:ea typeface="楷体_GB2312"/>
              </a:rPr>
              <a:t>１</a:t>
            </a:r>
            <a:r>
              <a:rPr b="1" lang="zh-CN" sz="32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rcRect l="0" t="4838" r="0" b="0"/>
          <a:stretch/>
        </p:blipFill>
        <p:spPr>
          <a:xfrm>
            <a:off x="3672000" y="1719360"/>
            <a:ext cx="3209760" cy="28796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4"/>
          <p:cNvSpPr/>
          <p:nvPr/>
        </p:nvSpPr>
        <p:spPr>
          <a:xfrm>
            <a:off x="206280" y="6149880"/>
            <a:ext cx="889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Times New Roman"/>
              </a:rPr>
              <a:t>解释现象：为什么刚炒的热菜比凉菜更容易闻到香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431640" y="1268280"/>
            <a:ext cx="8234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Times New Roman"/>
              </a:rPr>
              <a:t>　　构成物质的分子运动的快慢与什么因素有关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1062000" y="728640"/>
            <a:ext cx="34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分子热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431640" y="2033640"/>
            <a:ext cx="1710000" cy="52056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实验观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31640" y="4599000"/>
            <a:ext cx="8099640" cy="947160"/>
          </a:xfrm>
          <a:prstGeom prst="rect">
            <a:avLst/>
          </a:prstGeom>
          <a:solidFill>
            <a:srgbClr val="ffcc99"/>
          </a:solidFill>
          <a:ln w="25560">
            <a:solidFill>
              <a:srgbClr val="4f81bd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楷体_GB2312"/>
              </a:rPr>
              <a:t>　　</a:t>
            </a: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分子的运动跟温度有关，温度越高，分子运动越剧烈。我们把分子无规则运动叫做分子的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热运</a:t>
            </a:r>
            <a:br>
              <a:rPr sz="2800"/>
            </a:b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动</a:t>
            </a: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5"/>
          <p:cNvSpPr/>
          <p:nvPr/>
        </p:nvSpPr>
        <p:spPr>
          <a:xfrm>
            <a:off x="387360" y="4959360"/>
            <a:ext cx="22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497d"/>
                </a:solidFill>
                <a:latin typeface="宋体"/>
              </a:rPr>
              <a:t>是什么力使得两块铅块结合在一起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431640" y="998640"/>
            <a:ext cx="59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分子之间既有引力又有斥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433440" y="1731960"/>
            <a:ext cx="1888920" cy="52056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观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2"/>
          <a:stretch/>
        </p:blipFill>
        <p:spPr>
          <a:xfrm>
            <a:off x="449280" y="2438280"/>
            <a:ext cx="1917720" cy="237672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4f81bd">
                <a:alpha val="50000"/>
              </a:srgbClr>
            </a:outerShdw>
          </a:effectLst>
        </p:spPr>
      </p:pic>
      <p:grpSp>
        <p:nvGrpSpPr>
          <p:cNvPr id="234" name=""/>
          <p:cNvGrpSpPr/>
          <p:nvPr/>
        </p:nvGrpSpPr>
        <p:grpSpPr>
          <a:xfrm>
            <a:off x="2681280" y="1730520"/>
            <a:ext cx="3500280" cy="3932640"/>
            <a:chOff x="2681280" y="1730520"/>
            <a:chExt cx="3500280" cy="3932640"/>
          </a:xfrm>
        </p:grpSpPr>
        <p:sp>
          <p:nvSpPr>
            <p:cNvPr id="235" name="Rectangle 2"/>
            <p:cNvSpPr/>
            <p:nvPr/>
          </p:nvSpPr>
          <p:spPr>
            <a:xfrm>
              <a:off x="3446280" y="1730520"/>
              <a:ext cx="1845000" cy="520560"/>
            </a:xfrm>
            <a:prstGeom prst="rect">
              <a:avLst/>
            </a:prstGeom>
            <a:gradFill rotWithShape="0">
              <a:gsLst>
                <a:gs pos="0">
                  <a:srgbClr val="d1e8ff"/>
                </a:gs>
                <a:gs pos="100000">
                  <a:srgbClr val="99ccff"/>
                </a:gs>
              </a:gsLst>
              <a:lin ang="5400000"/>
            </a:gradFill>
            <a:ln w="1908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实验观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察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Picture 9" descr="01-22"/>
            <p:cNvPicPr/>
            <p:nvPr/>
          </p:nvPicPr>
          <p:blipFill>
            <a:blip r:embed="rId3"/>
            <a:stretch/>
          </p:blipFill>
          <p:spPr>
            <a:xfrm>
              <a:off x="2681280" y="2799000"/>
              <a:ext cx="3421080" cy="140328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4f81bd">
                  <a:alpha val="50000"/>
                </a:srgbClr>
              </a:outerShdw>
            </a:effectLst>
          </p:spPr>
        </p:pic>
        <p:sp>
          <p:nvSpPr>
            <p:cNvPr id="237" name="TextBox 5"/>
            <p:cNvSpPr/>
            <p:nvPr/>
          </p:nvSpPr>
          <p:spPr>
            <a:xfrm>
              <a:off x="2816280" y="4959360"/>
              <a:ext cx="3365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f497d"/>
                  </a:solidFill>
                  <a:latin typeface="宋体"/>
                </a:rPr>
                <a:t>气体被压缩时都会产生“抵抗”，要是压缩液体和固体呢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416640" y="1719360"/>
            <a:ext cx="2451240" cy="3773880"/>
            <a:chOff x="6416640" y="1719360"/>
            <a:chExt cx="2451240" cy="3773880"/>
          </a:xfrm>
        </p:grpSpPr>
        <p:sp>
          <p:nvSpPr>
            <p:cNvPr id="239" name="Rectangle 2"/>
            <p:cNvSpPr/>
            <p:nvPr/>
          </p:nvSpPr>
          <p:spPr>
            <a:xfrm>
              <a:off x="6462720" y="1719360"/>
              <a:ext cx="1981080" cy="520560"/>
            </a:xfrm>
            <a:prstGeom prst="rect">
              <a:avLst/>
            </a:prstGeom>
            <a:gradFill rotWithShape="0">
              <a:gsLst>
                <a:gs pos="0">
                  <a:srgbClr val="d1e8ff"/>
                </a:gs>
                <a:gs pos="100000">
                  <a:srgbClr val="99ccff"/>
                </a:gs>
              </a:gsLst>
              <a:lin ang="5400000"/>
            </a:gradFill>
            <a:ln w="1908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实验观察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" descr=""/>
            <p:cNvPicPr/>
            <p:nvPr/>
          </p:nvPicPr>
          <p:blipFill>
            <a:blip r:embed="rId4"/>
            <a:stretch/>
          </p:blipFill>
          <p:spPr>
            <a:xfrm>
              <a:off x="6462720" y="2440080"/>
              <a:ext cx="2165400" cy="244800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4f81bd">
                  <a:alpha val="50000"/>
                </a:srgbClr>
              </a:outerShdw>
            </a:effectLst>
          </p:spPr>
        </p:pic>
        <p:sp>
          <p:nvSpPr>
            <p:cNvPr id="241" name="TextBox 5"/>
            <p:cNvSpPr/>
            <p:nvPr/>
          </p:nvSpPr>
          <p:spPr>
            <a:xfrm>
              <a:off x="6416640" y="5094360"/>
              <a:ext cx="245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f497d"/>
                  </a:solidFill>
                  <a:latin typeface="宋体"/>
                </a:rPr>
                <a:t>测力计的示数为什么会变大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Picture 9" descr="E:\李燃\教师教学用书\2012人教教师用书项目\ppt\物理\图标.png"/>
          <p:cNvPicPr/>
          <p:nvPr/>
        </p:nvPicPr>
        <p:blipFill>
          <a:blip r:embed="rId5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243" name="矩形 4"/>
          <p:cNvSpPr/>
          <p:nvPr/>
        </p:nvSpPr>
        <p:spPr>
          <a:xfrm>
            <a:off x="2181240" y="414360"/>
            <a:ext cx="36648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三、分子间的作用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1640" y="6039000"/>
            <a:ext cx="8099640" cy="520560"/>
          </a:xfrm>
          <a:prstGeom prst="rect">
            <a:avLst/>
          </a:prstGeom>
          <a:solidFill>
            <a:srgbClr val="ffcc99"/>
          </a:solidFill>
          <a:ln w="25560">
            <a:solidFill>
              <a:srgbClr val="4f81bd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楷体_GB2312"/>
              </a:rPr>
              <a:t>　　实验表明，分子间同时存在引力和斥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2"/>
          <p:cNvSpPr/>
          <p:nvPr/>
        </p:nvSpPr>
        <p:spPr>
          <a:xfrm>
            <a:off x="431640" y="642960"/>
            <a:ext cx="8145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固体、液体、气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的宏观特性和微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描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431640" y="1366920"/>
            <a:ext cx="7939080" cy="3143520"/>
            <a:chOff x="431640" y="1366920"/>
            <a:chExt cx="7939080" cy="3143520"/>
          </a:xfrm>
        </p:grpSpPr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431640" y="1366920"/>
              <a:ext cx="2836800" cy="2622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248" name="" descr=""/>
            <p:cNvPicPr/>
            <p:nvPr/>
          </p:nvPicPr>
          <p:blipFill>
            <a:blip r:embed="rId3"/>
            <a:stretch/>
          </p:blipFill>
          <p:spPr>
            <a:xfrm>
              <a:off x="6165720" y="1370160"/>
              <a:ext cx="2181240" cy="2652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249" name="" descr=""/>
            <p:cNvPicPr/>
            <p:nvPr/>
          </p:nvPicPr>
          <p:blipFill>
            <a:blip r:embed="rId4"/>
            <a:stretch/>
          </p:blipFill>
          <p:spPr>
            <a:xfrm>
              <a:off x="3536640" y="1370160"/>
              <a:ext cx="2173320" cy="2609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250" name="TextBox 2"/>
            <p:cNvSpPr/>
            <p:nvPr/>
          </p:nvSpPr>
          <p:spPr>
            <a:xfrm>
              <a:off x="541080" y="4035600"/>
              <a:ext cx="26733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f497d"/>
                  </a:solidFill>
                  <a:latin typeface="宋体"/>
                </a:rPr>
                <a:t>固体分子间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Box 2"/>
            <p:cNvSpPr/>
            <p:nvPr/>
          </p:nvSpPr>
          <p:spPr>
            <a:xfrm>
              <a:off x="3421080" y="4035600"/>
              <a:ext cx="2474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f497d"/>
                  </a:solidFill>
                  <a:latin typeface="宋体"/>
                </a:rPr>
                <a:t>液体分子间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Box 2"/>
            <p:cNvSpPr/>
            <p:nvPr/>
          </p:nvSpPr>
          <p:spPr>
            <a:xfrm>
              <a:off x="6256080" y="4025880"/>
              <a:ext cx="2114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f497d"/>
                  </a:solidFill>
                  <a:latin typeface="宋体"/>
                </a:rPr>
                <a:t>气体分子间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3" name="Picture 9" descr="E:\李燃\教师教学用书\2012人教教师用书项目\ppt\物理\图标.png"/>
          <p:cNvPicPr/>
          <p:nvPr/>
        </p:nvPicPr>
        <p:blipFill>
          <a:blip r:embed="rId5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4"/>
          <p:cNvSpPr/>
          <p:nvPr/>
        </p:nvSpPr>
        <p:spPr>
          <a:xfrm>
            <a:off x="431640" y="4565520"/>
            <a:ext cx="8153640" cy="104940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子间距决定了分子间的作用力，从而决定了固体、液体和气体的特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气体分子之间的距离就很远，彼此之间几乎没有相互作用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4"/>
          <p:cNvSpPr/>
          <p:nvPr/>
        </p:nvSpPr>
        <p:spPr>
          <a:xfrm>
            <a:off x="446040" y="1944720"/>
            <a:ext cx="8034480" cy="104940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常见的物质是由分子、原子构成的；物质内的分子在不停地做热运动；分子之间存在引力和斥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450720" y="4432320"/>
            <a:ext cx="8061480" cy="104940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分子的世界我们无法观察，但是却能通过实验，得到分子在运动和分子间存在作用力的事实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直接感知的现象，推测无法直接感知的事实，这是物理学中常用的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1640" y="1268280"/>
            <a:ext cx="48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分子动理论的初步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31640" y="3789360"/>
            <a:ext cx="346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物理方法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260" name="矩形 4"/>
          <p:cNvSpPr/>
          <p:nvPr/>
        </p:nvSpPr>
        <p:spPr>
          <a:xfrm>
            <a:off x="1773360" y="414360"/>
            <a:ext cx="36648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四、分子动理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1"/>
          <p:cNvSpPr/>
          <p:nvPr/>
        </p:nvSpPr>
        <p:spPr>
          <a:xfrm>
            <a:off x="395280" y="1268280"/>
            <a:ext cx="8136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从图片可以看出，电子显微镜下的金分子之间存在缝隙，那为什么金不容易被压缩呢？你有什么办法证明分子之间存在缝隙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264" name="圆角矩形 1" descr=""/>
            <p:cNvPicPr/>
            <p:nvPr/>
          </p:nvPicPr>
          <p:blipFill>
            <a:blip r:embed="rId3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练一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187720" y="3294000"/>
            <a:ext cx="3958560" cy="2673720"/>
            <a:chOff x="2187720" y="3294000"/>
            <a:chExt cx="3958560" cy="2673720"/>
          </a:xfrm>
        </p:grpSpPr>
        <p:sp>
          <p:nvSpPr>
            <p:cNvPr id="267" name=""/>
            <p:cNvSpPr/>
            <p:nvPr/>
          </p:nvSpPr>
          <p:spPr>
            <a:xfrm>
              <a:off x="2258640" y="5568840"/>
              <a:ext cx="38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f497d"/>
                  </a:solidFill>
                  <a:latin typeface="Arial"/>
                </a:rPr>
                <a:t>    </a:t>
              </a:r>
              <a:r>
                <a:rPr b="1" lang="zh-CN" sz="2000" spc="-1" strike="noStrike">
                  <a:solidFill>
                    <a:srgbClr val="1f497d"/>
                  </a:solidFill>
                  <a:latin typeface="Arial"/>
                </a:rPr>
                <a:t>电子显微镜下的金分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" descr=""/>
            <p:cNvPicPr/>
            <p:nvPr/>
          </p:nvPicPr>
          <p:blipFill>
            <a:blip r:embed="rId4"/>
            <a:srcRect l="3112" t="3632" r="0" b="11317"/>
            <a:stretch/>
          </p:blipFill>
          <p:spPr>
            <a:xfrm>
              <a:off x="2187720" y="3338280"/>
              <a:ext cx="1584000" cy="211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5"/>
            <a:stretch/>
          </p:blipFill>
          <p:spPr>
            <a:xfrm>
              <a:off x="4302000" y="3294000"/>
              <a:ext cx="1763280" cy="207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431640" y="1268280"/>
            <a:ext cx="806472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明看到气象播报中提到可吸入颗粒物非常微小，于是他就想到，用可吸入颗粒物进入空气中来说明分子是运动的不是很好吗？他把这个想法告诉给小英，可小英说他的想法是错误的，你认为小明的想法对吗？若是不对，错在哪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272" name="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273" name="圆角矩形 1" descr=""/>
            <p:cNvPicPr/>
            <p:nvPr/>
          </p:nvPicPr>
          <p:blipFill>
            <a:blip r:embed="rId3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练一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31640" y="1533600"/>
            <a:ext cx="8234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破镜不能重圆”是因为将玻璃合起来时，镜子断裂处绝大多数分子距离过大，分子间几乎没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7"/>
          <p:cNvSpPr/>
          <p:nvPr/>
        </p:nvSpPr>
        <p:spPr>
          <a:xfrm>
            <a:off x="1360080" y="2347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相互作用的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279" name="圆角矩形 1" descr=""/>
            <p:cNvPicPr/>
            <p:nvPr/>
          </p:nvPicPr>
          <p:blipFill>
            <a:blip r:embed="rId3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练一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431640" y="1268280"/>
            <a:ext cx="8234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下表归纳了固、液、气三态物质宏观和微观的特性，请完成这个表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2"/>
          <a:stretch/>
        </p:blipFill>
        <p:spPr>
          <a:xfrm>
            <a:off x="431640" y="2438280"/>
            <a:ext cx="8190000" cy="3791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284" name="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285" name="圆角矩形 1" descr=""/>
            <p:cNvPicPr/>
            <p:nvPr/>
          </p:nvPicPr>
          <p:blipFill>
            <a:blip r:embed="rId4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练一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431640" y="1989000"/>
            <a:ext cx="458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子动理论的初步知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289" name="TextBox 4"/>
          <p:cNvSpPr/>
          <p:nvPr/>
        </p:nvSpPr>
        <p:spPr>
          <a:xfrm>
            <a:off x="417600" y="2708280"/>
            <a:ext cx="8062920" cy="180540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物质是由分子构成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构成物质的分子在不停地做热运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分子间存在着引力和斥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291" name="圆角矩形 1" descr=""/>
            <p:cNvPicPr/>
            <p:nvPr/>
          </p:nvPicPr>
          <p:blipFill>
            <a:blip r:embed="rId3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课堂小结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63" name="矩形 4"/>
          <p:cNvSpPr/>
          <p:nvPr/>
        </p:nvSpPr>
        <p:spPr>
          <a:xfrm>
            <a:off x="1258920" y="411120"/>
            <a:ext cx="261900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你了解物质的尺度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57360" y="1268280"/>
            <a:ext cx="71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银河系的直径约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0 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光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9080" y="126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光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483840" y="-15840"/>
            <a:ext cx="30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太阳系结构图"/>
          <p:cNvPicPr/>
          <p:nvPr/>
        </p:nvPicPr>
        <p:blipFill>
          <a:blip r:embed="rId3"/>
          <a:stretch/>
        </p:blipFill>
        <p:spPr>
          <a:xfrm>
            <a:off x="1422360" y="2394000"/>
            <a:ext cx="6480360" cy="4003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646280" y="1268280"/>
            <a:ext cx="67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国幅员辽阔，东西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 200 k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南北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 500 k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55640" y="51148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姚明的身高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26 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46280" y="5789520"/>
            <a:ext cx="62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生刻度尺的最小一格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m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9080" y="5807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毫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7080" y="5102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9080" y="126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千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483840" y="-15840"/>
            <a:ext cx="30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4"/>
          <p:cNvSpPr/>
          <p:nvPr/>
        </p:nvSpPr>
        <p:spPr>
          <a:xfrm>
            <a:off x="1250280" y="414360"/>
            <a:ext cx="261900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你了解物质的尺度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3807000" y="1854360"/>
            <a:ext cx="3033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4"/>
          <p:cNvSpPr/>
          <p:nvPr/>
        </p:nvSpPr>
        <p:spPr>
          <a:xfrm>
            <a:off x="431640" y="425520"/>
            <a:ext cx="774072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物质的尺度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欢迎大家来到微观世界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61960" y="1268280"/>
            <a:ext cx="8582040" cy="3466080"/>
            <a:chOff x="561960" y="1268280"/>
            <a:chExt cx="8582040" cy="3466080"/>
          </a:xfrm>
        </p:grpSpPr>
        <p:sp>
          <p:nvSpPr>
            <p:cNvPr id="180" name=""/>
            <p:cNvSpPr/>
            <p:nvPr/>
          </p:nvSpPr>
          <p:spPr>
            <a:xfrm>
              <a:off x="1832040" y="1268280"/>
              <a:ext cx="64245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人的头发丝的直径大约是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～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80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μ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一个细胞的长度大约在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0 μ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光学显微镜分辨力的极限是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.2 μm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61960" y="2895480"/>
              <a:ext cx="8582040" cy="1838880"/>
              <a:chOff x="561960" y="2895480"/>
              <a:chExt cx="8582040" cy="1838880"/>
            </a:xfrm>
          </p:grpSpPr>
          <p:pic>
            <p:nvPicPr>
              <p:cNvPr id="18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3040" y="2895480"/>
                <a:ext cx="8499960" cy="1295640"/>
              </a:xfrm>
              <a:prstGeom prst="rect">
                <a:avLst/>
              </a:prstGeom>
              <a:ln w="28440">
                <a:solidFill>
                  <a:srgbClr val="000000"/>
                </a:solidFill>
                <a:miter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561960" y="4335480"/>
                <a:ext cx="8582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f497d"/>
                    </a:solidFill>
                    <a:latin typeface="宋体"/>
                  </a:rPr>
                  <a:t>比光学显微镜放大倍数高</a:t>
                </a:r>
                <a:r>
                  <a:rPr b="1" lang="zh-CN" sz="2000" spc="-1" strike="noStrike">
                    <a:solidFill>
                      <a:srgbClr val="1f497d"/>
                    </a:solidFill>
                    <a:latin typeface="Times New Roman"/>
                    <a:ea typeface="仿宋_GB2312"/>
                  </a:rPr>
                  <a:t>1 000 </a:t>
                </a:r>
                <a:r>
                  <a:rPr b="1" lang="zh-CN" sz="2000" spc="-1" strike="noStrike">
                    <a:solidFill>
                      <a:srgbClr val="1f497d"/>
                    </a:solidFill>
                    <a:latin typeface="宋体"/>
                  </a:rPr>
                  <a:t>倍的电子显微镜下的发丝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"/>
          <p:cNvSpPr/>
          <p:nvPr/>
        </p:nvSpPr>
        <p:spPr>
          <a:xfrm>
            <a:off x="646560" y="126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微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6560" y="5024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纳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601640" y="5003640"/>
            <a:ext cx="7020000" cy="1487520"/>
            <a:chOff x="1601640" y="5003640"/>
            <a:chExt cx="7020000" cy="1487520"/>
          </a:xfrm>
        </p:grpSpPr>
        <p:sp>
          <p:nvSpPr>
            <p:cNvPr id="187" name=""/>
            <p:cNvSpPr/>
            <p:nvPr/>
          </p:nvSpPr>
          <p:spPr>
            <a:xfrm>
              <a:off x="1630080" y="5003640"/>
              <a:ext cx="699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在这个尺度下，我们可以数清楚分子或原子的个数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01640" y="5970600"/>
              <a:ext cx="41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水分子的直径是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.4 nm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431640" y="3068640"/>
            <a:ext cx="81900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　　如何了解构成物体的分子的情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通过物体的一些宏观表现来推断构成物体的分子的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431640" y="1268280"/>
            <a:ext cx="8234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常见的物质是由极其微小的粒子——分子、原子构成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93" name="矩形 4"/>
          <p:cNvSpPr/>
          <p:nvPr/>
        </p:nvSpPr>
        <p:spPr>
          <a:xfrm>
            <a:off x="1773360" y="414360"/>
            <a:ext cx="36648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、物质的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31640" y="4689360"/>
            <a:ext cx="814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分子如此之小，人们通常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-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单位来量度分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2280" y="3743280"/>
            <a:ext cx="40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497d"/>
                </a:solidFill>
                <a:latin typeface="Arial"/>
              </a:rPr>
              <a:t>电子显微镜下的铝合金易拉罐表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86280" y="3743280"/>
            <a:ext cx="361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1f497d"/>
                </a:solidFill>
                <a:latin typeface="Arial"/>
              </a:rPr>
              <a:t>电子显微镜下的金分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527720" y="1044720"/>
            <a:ext cx="1800000" cy="2484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571680" y="1177920"/>
            <a:ext cx="1730160" cy="21877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2498760" y="1184400"/>
            <a:ext cx="1671480" cy="2158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E:\李燃\教师教学用书\2012人教教师用书项目\ppt\物理\图标.png"/>
          <p:cNvPicPr/>
          <p:nvPr/>
        </p:nvPicPr>
        <p:blipFill>
          <a:blip r:embed="rId5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27720" y="3384720"/>
            <a:ext cx="184464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6507000" y="1268280"/>
            <a:ext cx="1845000" cy="21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431640" y="2529000"/>
            <a:ext cx="2114640" cy="52056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验观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864720" y="3294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气体扩散现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4973760" y="59482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497d"/>
                </a:solidFill>
                <a:latin typeface="Arial"/>
              </a:rPr>
              <a:t>气体扩散现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431640" y="998640"/>
            <a:ext cx="80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扩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不同的物质在互相接触时，彼此进入对方的现象，叫做扩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208" name="矩形 4"/>
          <p:cNvSpPr/>
          <p:nvPr/>
        </p:nvSpPr>
        <p:spPr>
          <a:xfrm>
            <a:off x="1773360" y="414360"/>
            <a:ext cx="36648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二、分子热运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167360" y="3338640"/>
            <a:ext cx="251928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1062000" y="1270080"/>
            <a:ext cx="2024280" cy="52056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观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378080" y="2754360"/>
            <a:ext cx="1428480" cy="2970000"/>
          </a:xfrm>
          <a:prstGeom prst="rect">
            <a:avLst/>
          </a:prstGeom>
          <a:ln w="0">
            <a:noFill/>
          </a:ln>
        </p:spPr>
      </p:pic>
      <p:grpSp>
        <p:nvGrpSpPr>
          <p:cNvPr id="212" name=""/>
          <p:cNvGrpSpPr/>
          <p:nvPr/>
        </p:nvGrpSpPr>
        <p:grpSpPr>
          <a:xfrm>
            <a:off x="3807000" y="2722680"/>
            <a:ext cx="4635360" cy="3476880"/>
            <a:chOff x="3807000" y="2722680"/>
            <a:chExt cx="4635360" cy="3476880"/>
          </a:xfrm>
        </p:grpSpPr>
        <p:sp>
          <p:nvSpPr>
            <p:cNvPr id="213" name="TextBox 13"/>
            <p:cNvSpPr/>
            <p:nvPr/>
          </p:nvSpPr>
          <p:spPr>
            <a:xfrm>
              <a:off x="3807000" y="5724720"/>
              <a:ext cx="45007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f497d"/>
                  </a:solidFill>
                  <a:latin typeface="Times New Roman"/>
                </a:rPr>
                <a:t>　</a:t>
              </a:r>
              <a:r>
                <a:rPr b="1" lang="zh-CN" sz="2000" spc="-1" strike="noStrike">
                  <a:solidFill>
                    <a:srgbClr val="1f497d"/>
                  </a:solidFill>
                  <a:latin typeface="Times New Roman"/>
                </a:rPr>
                <a:t>10</a:t>
              </a:r>
              <a:r>
                <a:rPr b="1" lang="zh-CN" sz="2000" spc="-1" strike="noStrike">
                  <a:solidFill>
                    <a:srgbClr val="1f497d"/>
                  </a:solidFill>
                  <a:latin typeface="宋体"/>
                </a:rPr>
                <a:t>日后    　 </a:t>
              </a:r>
              <a:r>
                <a:rPr b="1" lang="zh-CN" sz="2000" spc="-1" strike="noStrike">
                  <a:solidFill>
                    <a:srgbClr val="1f497d"/>
                  </a:solidFill>
                  <a:latin typeface="Times New Roman"/>
                </a:rPr>
                <a:t>20</a:t>
              </a:r>
              <a:r>
                <a:rPr b="1" lang="zh-CN" sz="2000" spc="-1" strike="noStrike">
                  <a:solidFill>
                    <a:srgbClr val="1f497d"/>
                  </a:solidFill>
                  <a:latin typeface="宋体"/>
                </a:rPr>
                <a:t>日后     </a:t>
              </a:r>
              <a:r>
                <a:rPr b="1" lang="zh-CN" sz="2000" spc="-1" strike="noStrike">
                  <a:solidFill>
                    <a:srgbClr val="1f497d"/>
                  </a:solidFill>
                  <a:latin typeface="Times New Roman"/>
                </a:rPr>
                <a:t>30</a:t>
              </a:r>
              <a:r>
                <a:rPr b="1" lang="zh-CN" sz="2000" spc="-1" strike="noStrike">
                  <a:solidFill>
                    <a:srgbClr val="1f497d"/>
                  </a:solidFill>
                  <a:latin typeface="宋体"/>
                </a:rPr>
                <a:t>日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3"/>
            <a:stretch/>
          </p:blipFill>
          <p:spPr>
            <a:xfrm>
              <a:off x="3851280" y="2722680"/>
              <a:ext cx="4591080" cy="297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" name="Rectangle 8"/>
          <p:cNvSpPr/>
          <p:nvPr/>
        </p:nvSpPr>
        <p:spPr>
          <a:xfrm>
            <a:off x="1630080" y="1989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液体扩散现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9" descr="E:\李燃\教师教学用书\2012人教教师用书项目\ppt\物理\图标.png"/>
          <p:cNvPicPr/>
          <p:nvPr/>
        </p:nvPicPr>
        <p:blipFill>
          <a:blip r:embed="rId4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217" name="矩形 4"/>
          <p:cNvSpPr/>
          <p:nvPr/>
        </p:nvSpPr>
        <p:spPr>
          <a:xfrm>
            <a:off x="2269440" y="414360"/>
            <a:ext cx="36648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二、分子热运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792000" y="2259000"/>
            <a:ext cx="252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497d"/>
                </a:solidFill>
                <a:latin typeface="宋体"/>
              </a:rPr>
              <a:t>长时间堆放煤的墙角会变黑，用笤帚扫都扫不干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402000" y="1449360"/>
            <a:ext cx="4724280" cy="30434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2862360" y="684360"/>
            <a:ext cx="414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固体间的扩散现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31640" y="4959360"/>
            <a:ext cx="8190000" cy="520560"/>
          </a:xfrm>
          <a:prstGeom prst="rect">
            <a:avLst/>
          </a:prstGeom>
          <a:solidFill>
            <a:srgbClr val="ffcc99"/>
          </a:solidFill>
          <a:ln w="25560">
            <a:solidFill>
              <a:srgbClr val="4f81bd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楷体_GB2312"/>
              </a:rPr>
              <a:t>　　扩散现象等大量事实表明，一切物质的分子都在不停地做无规则的运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08:15:09Z</dcterms:created>
  <dc:creator>bxy</dc:creator>
  <dc:description/>
  <dc:language>en-US</dc:language>
  <cp:lastModifiedBy>微软用户</cp:lastModifiedBy>
  <dcterms:modified xsi:type="dcterms:W3CDTF">2014-04-03T09:09:24Z</dcterms:modified>
  <cp:revision>4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