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jpeg" ContentType="image/jpeg"/>
  <Override PartName="/ppt/media/image2.jpeg" ContentType="image/jpeg"/>
  <Override PartName="/ppt/media/image26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ABF-C2D8-46B5-B725-F3100C68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83A7-E2AF-4271-B1CD-D55DB151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A7C-FCE5-4102-9AE0-8A1FB5AA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9BB2-683C-4388-8BD1-674CC25B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67A1-2DCC-440C-B7D8-721A1B15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8BA6-08EA-4462-96EA-EDCD9BCD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EFDC-FF83-4EBB-93E0-B5EF25D1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EBA5-59C2-4E11-8894-F53BECD9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5536-3650-4B63-B254-DE83E46B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B21B-E3EC-41E7-A5B1-60759FF1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6C83-43C0-4DC6-BB6A-6E5430F8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D41-89AB-447C-8173-83C09973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AB6B-058D-4A5A-915F-0DCE8768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971E-596F-49DA-8578-D6322E95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B965-AB2B-4E9E-8089-2AF212A5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0960-26F6-4654-8D5E-B3E4D045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ABA9-10B8-45D3-9E82-6A6CE3A4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E07-49CD-469B-B49D-00D1894B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53F1-E8C1-4F75-A289-6DD498AD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137-D203-4DD8-8A16-00BFE3CB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729-F564-4EBF-9219-49C2F4BA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243C-BC16-4BC8-849E-21835514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0A1-23CD-4A3C-9616-3F04B76C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F26-9DAB-4ECA-99EB-FFD2BAB0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3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a3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a33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a3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a33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a3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a33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a3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a33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a33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a33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a33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a33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4FF0-283B-4EF3-B9EF-497F29810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78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a33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9E5A-C5F7-4112-ABBA-EF5BEF867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33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a33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80a33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a331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a331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80a33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a33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80a331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80a33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a331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80a331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a331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80a331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a331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80a33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18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4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468360" y="2025720"/>
            <a:ext cx="820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热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755640" y="1341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第十三章 第</a:t>
            </a: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楷体_GB2312"/>
              </a:rPr>
              <a:t>３</a:t>
            </a:r>
            <a:r>
              <a:rPr b="1" lang="zh-CN" sz="32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31640" y="569736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　　想想这是为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1640" y="3274200"/>
            <a:ext cx="52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吐鲁番夏天最高温度大多在四十多摄氏度，居中国之首，而火焰山又是吐鲁番最热的地方，其表面温度最高曾达到八十多摄氏度。但一到晚上气温一下子就降到二十多摄氏度，空调都不用开 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796000" y="1233360"/>
            <a:ext cx="2895480" cy="5172480"/>
            <a:chOff x="5796000" y="1233360"/>
            <a:chExt cx="2895480" cy="517248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5796000" y="1233360"/>
              <a:ext cx="2895480" cy="47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682680" y="60069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火焰山的温度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69160" y="749160"/>
            <a:ext cx="36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利用比热容的知识解释一些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31640" y="1908360"/>
            <a:ext cx="817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昆明，又名春城，是云南省的首府。昆明的周边，现在滇池南北长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米，东西宽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米，总面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方千米，湖岸线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3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米，最大水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，平均水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。那里的气候宜人，四季如春，这与滇池密切相关。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</a:rPr>
              <a:t>你知道其中的缘故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76360" y="3824280"/>
            <a:ext cx="7848000" cy="2482920"/>
            <a:chOff x="576360" y="3824280"/>
            <a:chExt cx="7848000" cy="248292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576360" y="3824280"/>
              <a:ext cx="3750120" cy="244872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</p:pic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4668480" y="3824280"/>
              <a:ext cx="3755880" cy="248292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</p:pic>
      </p:grpSp>
      <p:pic>
        <p:nvPicPr>
          <p:cNvPr id="139" name="Picture 9" descr="E:\李燃\教师教学用书\2012人教教师用书项目\ppt\物理\图标.png"/>
          <p:cNvPicPr/>
          <p:nvPr/>
        </p:nvPicPr>
        <p:blipFill>
          <a:blip r:embed="rId4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69160" y="749160"/>
            <a:ext cx="36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利用比热容的知识解释一些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31640" y="2470320"/>
            <a:ext cx="442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谈起夏日海风，你可知道，在沿海地区陆地表面的气温比海面的气温昼夜变化显著，白天和夜晚的风向往往是不同的，你知道白天风是从哪里吹向哪里？夜晚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</a:rPr>
              <a:t>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040360" y="1881360"/>
            <a:ext cx="3708360" cy="3330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3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69160" y="749160"/>
            <a:ext cx="36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利用比热容的知识解释一些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31640" y="3176640"/>
            <a:ext cx="378000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896000" y="3321000"/>
            <a:ext cx="3816360" cy="2543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31640" y="126828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钢筋水泥都市，给我们的生活带来方便的同时，也给我们带来诸多不便，比如，炎炎夏季，都市气温往往比郊外要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这就是热岛效应，应该如何应对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31640" y="3176640"/>
            <a:ext cx="3816360" cy="3207240"/>
            <a:chOff x="431640" y="3176640"/>
            <a:chExt cx="3816360" cy="3207240"/>
          </a:xfrm>
        </p:grpSpPr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431640" y="3176640"/>
              <a:ext cx="3816360" cy="2681280"/>
            </a:xfrm>
            <a:prstGeom prst="rect">
              <a:avLst/>
            </a:prstGeom>
            <a:ln w="9360">
              <a:solidFill>
                <a:srgbClr val="0066cc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50" name=""/>
            <p:cNvSpPr/>
            <p:nvPr/>
          </p:nvSpPr>
          <p:spPr>
            <a:xfrm>
              <a:off x="431640" y="5985000"/>
              <a:ext cx="366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种草种树，增加水蒸气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蒸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96000" y="3176640"/>
            <a:ext cx="3851280" cy="3064320"/>
            <a:chOff x="4896000" y="3176640"/>
            <a:chExt cx="3851280" cy="3064320"/>
          </a:xfrm>
        </p:grpSpPr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4911840" y="3176640"/>
              <a:ext cx="3816360" cy="2682720"/>
            </a:xfrm>
            <a:prstGeom prst="rect">
              <a:avLst/>
            </a:prstGeom>
            <a:ln w="9360">
              <a:solidFill>
                <a:srgbClr val="0066cc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53" name=""/>
            <p:cNvSpPr/>
            <p:nvPr/>
          </p:nvSpPr>
          <p:spPr>
            <a:xfrm>
              <a:off x="4896000" y="5842080"/>
              <a:ext cx="385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修建人工湖，利用水的吸热本领强，来调节气温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9" descr="E:\李燃\教师教学用书\2012人教教师用书项目\ppt\物理\图标.png"/>
          <p:cNvPicPr/>
          <p:nvPr/>
        </p:nvPicPr>
        <p:blipFill>
          <a:blip r:embed="rId6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31640" y="7491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利用比热容的知识解释一些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31640" y="1268280"/>
            <a:ext cx="81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知道了水的比热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2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/(kg ·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你能根据它的物理意义计算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 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水，温度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升高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需要吸收的热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1640" y="2852640"/>
            <a:ext cx="8353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吸收的热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4.2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/(kg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×0.4 kg×(7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8.4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61840" y="5999040"/>
            <a:ext cx="30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Q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吸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=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c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82920" y="5985000"/>
            <a:ext cx="320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Q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=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m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03640" y="4329000"/>
            <a:ext cx="2376360" cy="1008000"/>
            <a:chOff x="3203640" y="4329000"/>
            <a:chExt cx="2376360" cy="1008000"/>
          </a:xfrm>
        </p:grpSpPr>
        <p:sp>
          <p:nvSpPr>
            <p:cNvPr id="162" name=""/>
            <p:cNvSpPr/>
            <p:nvPr/>
          </p:nvSpPr>
          <p:spPr>
            <a:xfrm>
              <a:off x="3203640" y="4329000"/>
              <a:ext cx="2376360" cy="1008000"/>
            </a:xfrm>
            <a:prstGeom prst="downArrow">
              <a:avLst>
                <a:gd name="adj1" fmla="val 70204"/>
                <a:gd name="adj2" fmla="val 46931"/>
              </a:avLst>
            </a:prstGeom>
            <a:solidFill>
              <a:srgbClr val="ffffff"/>
            </a:solidFill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4400280"/>
              <a:ext cx="17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提炼公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31640" y="5345280"/>
            <a:ext cx="810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吸收的热量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比热容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质量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升高的温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1773360" y="411120"/>
            <a:ext cx="366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热量的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31640" y="1268280"/>
            <a:ext cx="81360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a331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80a331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80a331"/>
                </a:solidFill>
                <a:latin typeface="Times New Roman"/>
              </a:rPr>
              <a:t>．关于比热容，下列说法正确的是（        ）</a:t>
            </a:r>
            <a:endParaRPr b="0" lang="en-US" sz="2800" spc="-1" strike="noStrike">
              <a:solidFill>
                <a:srgbClr val="80a33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a331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80a331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80a331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80a331"/>
                </a:solidFill>
                <a:latin typeface="Times New Roman"/>
              </a:rPr>
              <a:t>．温度越高，比热容越大           </a:t>
            </a:r>
            <a:endParaRPr b="0" lang="en-US" sz="2800" spc="-1" strike="noStrike">
              <a:solidFill>
                <a:srgbClr val="80a33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a331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80a331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80a331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80a331"/>
                </a:solidFill>
                <a:latin typeface="Times New Roman"/>
              </a:rPr>
              <a:t>．物质放热越多，比热容越大</a:t>
            </a:r>
            <a:endParaRPr b="0" lang="en-US" sz="2800" spc="-1" strike="noStrike">
              <a:solidFill>
                <a:srgbClr val="80a33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a331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80a331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80a331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80a331"/>
                </a:solidFill>
                <a:latin typeface="Times New Roman"/>
              </a:rPr>
              <a:t>．物质的质量越大，比热容越小     </a:t>
            </a:r>
            <a:endParaRPr b="0" lang="en-US" sz="2800" spc="-1" strike="noStrike">
              <a:solidFill>
                <a:srgbClr val="80a33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a331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80a331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80a331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80a331"/>
                </a:solidFill>
                <a:latin typeface="Times New Roman"/>
              </a:rPr>
              <a:t>．物质的比热容与质量和温度无关</a:t>
            </a:r>
            <a:endParaRPr b="0" lang="en-US" sz="2800" spc="-1" strike="noStrike">
              <a:solidFill>
                <a:srgbClr val="80a331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05440" y="1289160"/>
            <a:ext cx="11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170" name="圆角矩形 1" descr=""/>
            <p:cNvPicPr/>
            <p:nvPr/>
          </p:nvPicPr>
          <p:blipFill>
            <a:blip r:embed="rId3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696000" y="166536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 B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31640" y="4070520"/>
            <a:ext cx="8388360" cy="2599920"/>
            <a:chOff x="431640" y="4070520"/>
            <a:chExt cx="8388360" cy="2599920"/>
          </a:xfrm>
        </p:grpSpPr>
        <p:pic>
          <p:nvPicPr>
            <p:cNvPr id="175" name="" descr=""/>
            <p:cNvPicPr/>
            <p:nvPr/>
          </p:nvPicPr>
          <p:blipFill>
            <a:blip r:embed="rId3"/>
            <a:srcRect l="54116" t="13661" r="0" b="0"/>
            <a:stretch/>
          </p:blipFill>
          <p:spPr>
            <a:xfrm>
              <a:off x="2555640" y="4113000"/>
              <a:ext cx="2124000" cy="19350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6" name=""/>
            <p:cNvSpPr/>
            <p:nvPr/>
          </p:nvSpPr>
          <p:spPr>
            <a:xfrm>
              <a:off x="1116000" y="6149880"/>
              <a:ext cx="74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                     B                      C                     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4787640" y="4152600"/>
              <a:ext cx="1944720" cy="1912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78" name="" descr=""/>
            <p:cNvPicPr/>
            <p:nvPr/>
          </p:nvPicPr>
          <p:blipFill>
            <a:blip r:embed="rId5"/>
            <a:stretch/>
          </p:blipFill>
          <p:spPr>
            <a:xfrm>
              <a:off x="6840360" y="4154400"/>
              <a:ext cx="1979640" cy="19346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79" name="" descr=""/>
            <p:cNvPicPr/>
            <p:nvPr/>
          </p:nvPicPr>
          <p:blipFill>
            <a:blip r:embed="rId6"/>
            <a:srcRect l="0" t="0" r="48187" b="-182"/>
            <a:stretch/>
          </p:blipFill>
          <p:spPr>
            <a:xfrm>
              <a:off x="431640" y="4070520"/>
              <a:ext cx="2124000" cy="19872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80" name=""/>
          <p:cNvSpPr/>
          <p:nvPr/>
        </p:nvSpPr>
        <p:spPr>
          <a:xfrm>
            <a:off x="431640" y="1268280"/>
            <a:ext cx="831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以下四种现象中，与水的比热容有很大关系的是　　　　　　　　　　　　　　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汽车的发动机用循环流动的水来冷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生活中往往用热水取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夏天洒水降温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滩涂湿地温差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182" name="圆角矩形 1" descr=""/>
            <p:cNvPicPr/>
            <p:nvPr/>
          </p:nvPicPr>
          <p:blipFill>
            <a:blip r:embed="rId7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31640" y="1524600"/>
            <a:ext cx="8280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一个质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 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钢件，加热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60 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然后在空气中自然冷却，室温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 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这个钢件在冷却过程中放出多少热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588000" y="2600280"/>
            <a:ext cx="2124360" cy="1836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57080" y="4329000"/>
            <a:ext cx="8460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Q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放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=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m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0.4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/(kg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25 kg×(560 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 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=6.2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375300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钢的比热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/(kg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1640" y="3105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191" name="圆角矩形 1" descr=""/>
            <p:cNvPicPr/>
            <p:nvPr/>
          </p:nvPicPr>
          <p:blipFill>
            <a:blip r:embed="rId4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58920" y="231300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31640" y="1268280"/>
            <a:ext cx="8101080" cy="32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将质量、初温分别相等的铁块和铝块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放在沸水中煮一段较长的时间，则它们吸收的热量（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铁块和铝块吸收的热量一样多　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铝块比铁块吸收的热量多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铁块比铝块吸收的热量多　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条件不足，无法确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197" name="圆角矩形 1" descr=""/>
            <p:cNvPicPr/>
            <p:nvPr/>
          </p:nvPicPr>
          <p:blipFill>
            <a:blip r:embed="rId3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468360" y="2708280"/>
            <a:ext cx="2657520" cy="2468520"/>
            <a:chOff x="468360" y="2708280"/>
            <a:chExt cx="2657520" cy="2468520"/>
          </a:xfrm>
        </p:grpSpPr>
        <p:pic>
          <p:nvPicPr>
            <p:cNvPr id="200" name="单圆角矩形 2" descr=""/>
            <p:cNvPicPr/>
            <p:nvPr/>
          </p:nvPicPr>
          <p:blipFill>
            <a:blip r:embed="rId2"/>
            <a:stretch/>
          </p:blipFill>
          <p:spPr>
            <a:xfrm>
              <a:off x="468360" y="2708280"/>
              <a:ext cx="26575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52680" y="2813040"/>
              <a:ext cx="1487160" cy="22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_GB2312"/>
                </a:rPr>
                <a:t>什么是比热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627280" y="2637000"/>
            <a:ext cx="2792160" cy="2468520"/>
            <a:chOff x="2627280" y="2637000"/>
            <a:chExt cx="2792160" cy="2468520"/>
          </a:xfrm>
        </p:grpSpPr>
        <p:grpSp>
          <p:nvGrpSpPr>
            <p:cNvPr id="203" name=""/>
            <p:cNvGrpSpPr/>
            <p:nvPr/>
          </p:nvGrpSpPr>
          <p:grpSpPr>
            <a:xfrm>
              <a:off x="3419280" y="2637000"/>
              <a:ext cx="2000160" cy="2468520"/>
              <a:chOff x="3419280" y="2637000"/>
              <a:chExt cx="2000160" cy="2468520"/>
            </a:xfrm>
          </p:grpSpPr>
          <p:pic>
            <p:nvPicPr>
              <p:cNvPr id="204" name="单圆角矩形 3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9280" y="2637000"/>
                <a:ext cx="2000160" cy="246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3579120" y="2759400"/>
                <a:ext cx="1626840" cy="227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楷体_GB2312"/>
                  </a:rPr>
                  <a:t>比热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楷体_GB2312"/>
                  </a:rPr>
                  <a:t>知识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楷体_GB2312"/>
                  </a:rPr>
                  <a:t>运用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627280" y="3284640"/>
              <a:ext cx="615960" cy="1322280"/>
              <a:chOff x="2627280" y="3284640"/>
              <a:chExt cx="615960" cy="1322280"/>
            </a:xfrm>
          </p:grpSpPr>
          <p:pic>
            <p:nvPicPr>
              <p:cNvPr id="207" name="燕尾形 5" descr=""/>
              <p:cNvPicPr/>
              <p:nvPr/>
            </p:nvPicPr>
            <p:blipFill>
              <a:blip r:embed="rId4"/>
              <a:stretch/>
            </p:blipFill>
            <p:spPr>
              <a:xfrm>
                <a:off x="2627280" y="3284640"/>
                <a:ext cx="615960" cy="132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2689200" y="3321000"/>
                <a:ext cx="500040" cy="121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5565600" y="2766960"/>
            <a:ext cx="3038040" cy="2470320"/>
            <a:chOff x="5565600" y="2766960"/>
            <a:chExt cx="3038040" cy="2470320"/>
          </a:xfrm>
        </p:grpSpPr>
        <p:grpSp>
          <p:nvGrpSpPr>
            <p:cNvPr id="210" name=""/>
            <p:cNvGrpSpPr/>
            <p:nvPr/>
          </p:nvGrpSpPr>
          <p:grpSpPr>
            <a:xfrm>
              <a:off x="5565600" y="2766960"/>
              <a:ext cx="3038040" cy="2470320"/>
              <a:chOff x="5565600" y="2766960"/>
              <a:chExt cx="3038040" cy="2470320"/>
            </a:xfrm>
          </p:grpSpPr>
          <p:pic>
            <p:nvPicPr>
              <p:cNvPr id="211" name="单圆角矩形 4" descr=""/>
              <p:cNvPicPr/>
              <p:nvPr/>
            </p:nvPicPr>
            <p:blipFill>
              <a:blip r:embed="rId5"/>
              <a:stretch/>
            </p:blipFill>
            <p:spPr>
              <a:xfrm>
                <a:off x="5565600" y="2766960"/>
                <a:ext cx="3038040" cy="247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6644160" y="2870280"/>
                <a:ext cx="1692360" cy="227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楷体_GB2312"/>
                  </a:rPr>
                  <a:t>热量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楷体_GB2312"/>
                  </a:rPr>
                  <a:t>计算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5657760" y="3176640"/>
              <a:ext cx="614160" cy="1328760"/>
              <a:chOff x="5657760" y="3176640"/>
              <a:chExt cx="614160" cy="1328760"/>
            </a:xfrm>
          </p:grpSpPr>
          <p:pic>
            <p:nvPicPr>
              <p:cNvPr id="214" name="燕尾形 6" descr=""/>
              <p:cNvPicPr/>
              <p:nvPr/>
            </p:nvPicPr>
            <p:blipFill>
              <a:blip r:embed="rId6"/>
              <a:stretch/>
            </p:blipFill>
            <p:spPr>
              <a:xfrm>
                <a:off x="5657760" y="3176640"/>
                <a:ext cx="614160" cy="132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5714640" y="3214800"/>
                <a:ext cx="499680" cy="12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6" name="Picture 9" descr="E:\李燃\教师教学用书\2012人教教师用书项目\ppt\物理\图标.png"/>
          <p:cNvPicPr/>
          <p:nvPr/>
        </p:nvPicPr>
        <p:blipFill>
          <a:blip r:embed="rId7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218" name="圆角矩形 1" descr=""/>
            <p:cNvPicPr/>
            <p:nvPr/>
          </p:nvPicPr>
          <p:blipFill>
            <a:blip r:embed="rId8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课堂小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7619760" cy="396108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431640" y="52657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同样的日照条件，海水的温度和沙滩不一样。白天，海水凉，沙滩烫脚。傍晚，沙滩凉了下来，海水却还暖暖的，这是为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87" name="矩形 4"/>
          <p:cNvSpPr/>
          <p:nvPr/>
        </p:nvSpPr>
        <p:spPr>
          <a:xfrm>
            <a:off x="1094760" y="411120"/>
            <a:ext cx="213156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来自大自然的疑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31640" y="2565360"/>
            <a:ext cx="820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　　同样的日照情况下，为什么沙子和海水升高的温度不同呢？是因为沙子和水是不同的物质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1640" y="465300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　　用不同物质比一比吧！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9520" y="1008000"/>
            <a:ext cx="25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探究物质的吸热本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1640" y="1844640"/>
            <a:ext cx="32767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想一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1640" y="5337000"/>
            <a:ext cx="817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看看不同种类的物质，吸收热量的性质是否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848520" y="411120"/>
            <a:ext cx="140004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比热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1640" y="3968640"/>
            <a:ext cx="32767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做一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31640" y="1413000"/>
            <a:ext cx="772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比什么？拿谁比？怎么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怎么知道哪种物质吸收热量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要记录哪些数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431640" y="2997360"/>
            <a:ext cx="211464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行实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31640" y="730080"/>
            <a:ext cx="211464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368360" y="3681360"/>
            <a:ext cx="2919600" cy="2935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003640" y="3753000"/>
            <a:ext cx="29260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431640" y="730080"/>
            <a:ext cx="211464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1640" y="4400640"/>
            <a:ext cx="819000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bbe0e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楷体_GB2312"/>
              </a:rPr>
              <a:t>　　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等质量的水和食用油，升高相同温度，水需要的加热时间更长，水比食用油吸收热量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1640" y="5589720"/>
            <a:ext cx="819000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bbe0e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楷体_GB2312"/>
              </a:rPr>
              <a:t>　　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由本次实验可以看出，水和食用油吸收热量的差异，是由它们的种类决定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368360" y="1268280"/>
            <a:ext cx="2919600" cy="2935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003640" y="1341360"/>
            <a:ext cx="292608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31640" y="1341360"/>
            <a:ext cx="817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经过科学测定，发现一般情况下，不同的物质，在质量相等、升高温度相同时，吸收的热量不同。物质的这种性质，用物理量比热容来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1640" y="3213000"/>
            <a:ext cx="802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　　一定质量的某种物质，在温度升高时吸收的热量与它的质量和升高的温度乘积之比，叫做这种物质的比热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5049720"/>
            <a:ext cx="7956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　　比热容用符号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表示，它的单位是焦每千克摄氏度，符号是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J/(kg ·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℃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93880" y="74916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什么是比热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31640" y="3968640"/>
            <a:ext cx="817272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水的比热容是：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 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水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=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4.2×10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J/(kg ·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℃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　　色拉油的比热容是：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 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油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=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97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×10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J/(kg·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℃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1640" y="512136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尝试说出水的比热容的物理意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1640" y="56973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kg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水温度升高或降低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℃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吸收或放出的热量是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4.2×10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93080" y="749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识比热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368360" y="1233360"/>
            <a:ext cx="2919600" cy="2935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003640" y="1305000"/>
            <a:ext cx="29260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01480" y="4365720"/>
            <a:ext cx="86425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于比热容，下面几种认识对不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沙石，温度升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大概要吸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20 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热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液体的比热容都比固体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同一种物质，比热容是相同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比热容是物质的特性之一，可以用来鉴别物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52360" y="7491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会查物质的比热容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971640" y="1268280"/>
            <a:ext cx="698508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332000" y="1592280"/>
            <a:ext cx="6191280" cy="345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5" name="TextBox 1"/>
          <p:cNvSpPr/>
          <p:nvPr/>
        </p:nvSpPr>
        <p:spPr>
          <a:xfrm>
            <a:off x="431640" y="5337000"/>
            <a:ext cx="8209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　　不考虑经济成本，谈一谈暖气用水好，还是用油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69160" y="749160"/>
            <a:ext cx="36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利用比热容的知识解释一些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15:09Z</dcterms:created>
  <dc:creator>好之源</dc:creator>
  <dc:description/>
  <dc:language>en-US</dc:language>
  <cp:lastModifiedBy>微软用户</cp:lastModifiedBy>
  <dcterms:modified xsi:type="dcterms:W3CDTF">2014-04-03T09:06:49Z</dcterms:modified>
  <cp:revision>3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