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9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jpeg" ContentType="image/jpeg"/>
  <Override PartName="/ppt/media/image15.png" ContentType="image/png"/>
  <Override PartName="/ppt/media/image16.png" ContentType="image/png"/>
  <Override PartName="/ppt/media/image29.png" ContentType="image/png"/>
  <Override PartName="/ppt/media/chimes.wav" ContentType="audio/x-wav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7DF-B2A8-4639-AF75-C5616369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220E-F43E-4FAA-8F7B-A7B2B09A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F3E-78F4-41FD-83E2-727E1E82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213D-D5B3-41F1-BA3E-DB2BA614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E1D7-5B89-454D-A172-8F4801D8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082B-3DF0-4538-8370-78E46BF8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8CA5-F7E3-4914-B995-7ED96B93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CAD6-3215-4BBF-B5AE-919238AF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79DF-C1BA-47BC-8A7C-D3E07AC7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BA04-23E0-4E65-8B31-1B548482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1BAB-8333-494C-82A8-04A16F72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9F4D-38FD-409C-B3FB-6A7C6AF8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5E84-D109-4FE9-9E77-9D08D6A0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23FC-CAD2-41C5-ACB5-FB059CFC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EFDA-3AF0-447D-A789-93A9E255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22AA-F123-43BB-B22F-DC8CFC06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3197-9DBE-4260-9B31-CC898E76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3C599-6E34-4E98-9B37-D22CD3D4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3F813-8601-43E2-9996-1388AEFE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94A8B-6FBD-4A9E-AB85-1445AC44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5A346-13F5-4697-83A7-0004EFFE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7A040-1E48-4448-9323-BCB9F980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CBB3-2845-4688-A3E7-51ADAC68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1F488-8DDC-4279-827F-2A6501D2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B30B3-3592-4B84-97FD-C073CBBE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91ECF-393E-4457-B20D-1EBE4422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D818-6A8F-43C7-8CD9-7CC02A48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57D91-1FE1-44AA-8AC9-1A85DB85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80787-AF93-40A5-A251-E035B040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2C8F0-CFE4-43D6-92A4-BA10B031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649-33D9-4246-A763-71080E2B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FEF-C7D4-43F9-86D4-75B709C4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2FA-A22A-4E9A-A368-134353AB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E792-6622-4B3B-928C-09B3A3B6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29E-407C-4515-8E46-3364A360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95D-2436-4EE6-9832-5D04DDB2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EEEE-A860-44C8-B298-E79CFA5FD354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CCB6-4084-4D84-BAB5-2CF05F648018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E9ED-7305-489D-AF1F-CCF2D629F9E7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"/>
          <p:cNvSpPr/>
          <p:nvPr/>
        </p:nvSpPr>
        <p:spPr>
          <a:xfrm>
            <a:off x="1881360" y="1071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画中的现象说明了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9"/>
          <p:cNvGrpSpPr/>
          <p:nvPr/>
        </p:nvGrpSpPr>
        <p:grpSpPr>
          <a:xfrm>
            <a:off x="2095560" y="1752480"/>
            <a:ext cx="8123040" cy="3043440"/>
            <a:chOff x="2095560" y="1752480"/>
            <a:chExt cx="8123040" cy="3043440"/>
          </a:xfrm>
        </p:grpSpPr>
        <p:pic>
          <p:nvPicPr>
            <p:cNvPr id="216" name="Picture 6" descr="140402"/>
            <p:cNvPicPr/>
            <p:nvPr/>
          </p:nvPicPr>
          <p:blipFill>
            <a:blip r:embed="rId1"/>
            <a:stretch/>
          </p:blipFill>
          <p:spPr>
            <a:xfrm>
              <a:off x="2095560" y="1862280"/>
              <a:ext cx="8123040" cy="29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8"/>
            <p:cNvSpPr/>
            <p:nvPr/>
          </p:nvSpPr>
          <p:spPr>
            <a:xfrm>
              <a:off x="5371920" y="1752480"/>
              <a:ext cx="1599840" cy="52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Text Box 10"/>
          <p:cNvSpPr/>
          <p:nvPr/>
        </p:nvSpPr>
        <p:spPr>
          <a:xfrm>
            <a:off x="2166840" y="528624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液体中，流速越大的位置压强越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122" descr="物7A"/>
          <p:cNvPicPr/>
          <p:nvPr/>
        </p:nvPicPr>
        <p:blipFill>
          <a:blip r:embed="rId1"/>
          <a:stretch/>
        </p:blipFill>
        <p:spPr>
          <a:xfrm>
            <a:off x="2133720" y="2286000"/>
            <a:ext cx="3606840" cy="323532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29"/>
          <p:cNvGrpSpPr/>
          <p:nvPr/>
        </p:nvGrpSpPr>
        <p:grpSpPr>
          <a:xfrm>
            <a:off x="6570000" y="2540160"/>
            <a:ext cx="2709000" cy="2776680"/>
            <a:chOff x="6570000" y="2540160"/>
            <a:chExt cx="2709000" cy="2776680"/>
          </a:xfrm>
        </p:grpSpPr>
        <p:grpSp>
          <p:nvGrpSpPr>
            <p:cNvPr id="221" name="Group 20"/>
            <p:cNvGrpSpPr/>
            <p:nvPr/>
          </p:nvGrpSpPr>
          <p:grpSpPr>
            <a:xfrm>
              <a:off x="6570000" y="2540160"/>
              <a:ext cx="1186560" cy="2776680"/>
              <a:chOff x="6570000" y="2540160"/>
              <a:chExt cx="1186560" cy="2776680"/>
            </a:xfrm>
          </p:grpSpPr>
          <p:sp>
            <p:nvSpPr>
              <p:cNvPr id="222" name="Line 8"/>
              <p:cNvSpPr/>
              <p:nvPr/>
            </p:nvSpPr>
            <p:spPr>
              <a:xfrm>
                <a:off x="7756560" y="2540160"/>
                <a:ext cx="0" cy="1600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Line 17"/>
              <p:cNvSpPr/>
              <p:nvPr/>
            </p:nvSpPr>
            <p:spPr>
              <a:xfrm flipV="1">
                <a:off x="6570000" y="4131360"/>
                <a:ext cx="1185480" cy="1185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4" name="Oval 19"/>
            <p:cNvSpPr/>
            <p:nvPr/>
          </p:nvSpPr>
          <p:spPr>
            <a:xfrm>
              <a:off x="7543800" y="4387680"/>
              <a:ext cx="260280" cy="5191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5" name="Group 21"/>
            <p:cNvGrpSpPr/>
            <p:nvPr/>
          </p:nvGrpSpPr>
          <p:grpSpPr>
            <a:xfrm>
              <a:off x="8092440" y="2540160"/>
              <a:ext cx="1186560" cy="2776680"/>
              <a:chOff x="8092440" y="2540160"/>
              <a:chExt cx="1186560" cy="2776680"/>
            </a:xfrm>
          </p:grpSpPr>
          <p:sp>
            <p:nvSpPr>
              <p:cNvPr id="226" name="Line 22"/>
              <p:cNvSpPr/>
              <p:nvPr/>
            </p:nvSpPr>
            <p:spPr>
              <a:xfrm>
                <a:off x="8092440" y="2540160"/>
                <a:ext cx="0" cy="1600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Line 23"/>
              <p:cNvSpPr/>
              <p:nvPr/>
            </p:nvSpPr>
            <p:spPr>
              <a:xfrm flipH="1" flipV="1">
                <a:off x="8093520" y="4131360"/>
                <a:ext cx="1185480" cy="1185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8" name="Group 30"/>
          <p:cNvGrpSpPr/>
          <p:nvPr/>
        </p:nvGrpSpPr>
        <p:grpSpPr>
          <a:xfrm>
            <a:off x="7848720" y="2819520"/>
            <a:ext cx="152280" cy="1218960"/>
            <a:chOff x="7848720" y="2819520"/>
            <a:chExt cx="152280" cy="1218960"/>
          </a:xfrm>
        </p:grpSpPr>
        <p:sp>
          <p:nvSpPr>
            <p:cNvPr id="229" name="Line 24"/>
            <p:cNvSpPr/>
            <p:nvPr/>
          </p:nvSpPr>
          <p:spPr>
            <a:xfrm>
              <a:off x="7848720" y="2819520"/>
              <a:ext cx="0" cy="121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Line 25"/>
            <p:cNvSpPr/>
            <p:nvPr/>
          </p:nvSpPr>
          <p:spPr>
            <a:xfrm>
              <a:off x="7924680" y="2819520"/>
              <a:ext cx="0" cy="121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Line 26"/>
            <p:cNvSpPr/>
            <p:nvPr/>
          </p:nvSpPr>
          <p:spPr>
            <a:xfrm>
              <a:off x="8001000" y="2819520"/>
              <a:ext cx="0" cy="121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Group 31"/>
          <p:cNvGrpSpPr/>
          <p:nvPr/>
        </p:nvGrpSpPr>
        <p:grpSpPr>
          <a:xfrm>
            <a:off x="7009920" y="4191120"/>
            <a:ext cx="1752840" cy="838080"/>
            <a:chOff x="7009920" y="4191120"/>
            <a:chExt cx="1752840" cy="838080"/>
          </a:xfrm>
        </p:grpSpPr>
        <p:sp>
          <p:nvSpPr>
            <p:cNvPr id="233" name="Line 27"/>
            <p:cNvSpPr/>
            <p:nvPr/>
          </p:nvSpPr>
          <p:spPr>
            <a:xfrm flipH="1">
              <a:off x="7009920" y="4191120"/>
              <a:ext cx="762120" cy="83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Line 28"/>
            <p:cNvSpPr/>
            <p:nvPr/>
          </p:nvSpPr>
          <p:spPr>
            <a:xfrm>
              <a:off x="8076960" y="4191120"/>
              <a:ext cx="685800" cy="83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5" name="Group 39"/>
          <p:cNvGrpSpPr/>
          <p:nvPr/>
        </p:nvGrpSpPr>
        <p:grpSpPr>
          <a:xfrm>
            <a:off x="8458200" y="4038480"/>
            <a:ext cx="2133360" cy="533160"/>
            <a:chOff x="8458200" y="4038480"/>
            <a:chExt cx="2133360" cy="533160"/>
          </a:xfrm>
        </p:grpSpPr>
        <p:sp>
          <p:nvSpPr>
            <p:cNvPr id="236" name="Line 33"/>
            <p:cNvSpPr/>
            <p:nvPr/>
          </p:nvSpPr>
          <p:spPr>
            <a:xfrm flipV="1">
              <a:off x="8458200" y="4343040"/>
              <a:ext cx="83808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Text Box 35"/>
            <p:cNvSpPr/>
            <p:nvPr/>
          </p:nvSpPr>
          <p:spPr>
            <a:xfrm>
              <a:off x="9144000" y="403848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压强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" name="Group 40"/>
          <p:cNvGrpSpPr/>
          <p:nvPr/>
        </p:nvGrpSpPr>
        <p:grpSpPr>
          <a:xfrm>
            <a:off x="5715000" y="3976560"/>
            <a:ext cx="1676160" cy="595080"/>
            <a:chOff x="5715000" y="3976560"/>
            <a:chExt cx="1676160" cy="595080"/>
          </a:xfrm>
        </p:grpSpPr>
        <p:sp>
          <p:nvSpPr>
            <p:cNvPr id="239" name="Line 34"/>
            <p:cNvSpPr/>
            <p:nvPr/>
          </p:nvSpPr>
          <p:spPr>
            <a:xfrm flipH="1" flipV="1">
              <a:off x="6933960" y="434304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 Box 36"/>
            <p:cNvSpPr/>
            <p:nvPr/>
          </p:nvSpPr>
          <p:spPr>
            <a:xfrm>
              <a:off x="5715000" y="397656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压强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41"/>
          <p:cNvGrpSpPr/>
          <p:nvPr/>
        </p:nvGrpSpPr>
        <p:grpSpPr>
          <a:xfrm>
            <a:off x="7238880" y="5105520"/>
            <a:ext cx="1447920" cy="901440"/>
            <a:chOff x="7238880" y="5105520"/>
            <a:chExt cx="1447920" cy="901440"/>
          </a:xfrm>
        </p:grpSpPr>
        <p:sp>
          <p:nvSpPr>
            <p:cNvPr id="242" name="Line 37"/>
            <p:cNvSpPr/>
            <p:nvPr/>
          </p:nvSpPr>
          <p:spPr>
            <a:xfrm>
              <a:off x="7924680" y="510552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Text Box 38"/>
            <p:cNvSpPr/>
            <p:nvPr/>
          </p:nvSpPr>
          <p:spPr>
            <a:xfrm>
              <a:off x="7238880" y="54864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压强大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Text Box 42"/>
          <p:cNvSpPr/>
          <p:nvPr/>
        </p:nvSpPr>
        <p:spPr>
          <a:xfrm>
            <a:off x="1828800" y="10288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你能运用所学的知识解释活动中的现象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3"/>
          <p:cNvSpPr/>
          <p:nvPr/>
        </p:nvSpPr>
        <p:spPr>
          <a:xfrm>
            <a:off x="1801800" y="950760"/>
            <a:ext cx="83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手拿两张纸让它们自然下垂，且纸面平行。在两张纸中间向下吹气，可以观察到什么现象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10" descr="未标题-1 副本"/>
          <p:cNvPicPr/>
          <p:nvPr/>
        </p:nvPicPr>
        <p:blipFill>
          <a:blip r:embed="rId1"/>
          <a:srcRect l="0" t="0" r="0" b="16798"/>
          <a:stretch/>
        </p:blipFill>
        <p:spPr>
          <a:xfrm>
            <a:off x="8278920" y="1484280"/>
            <a:ext cx="1752480" cy="23464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7"/>
          <p:cNvSpPr/>
          <p:nvPr/>
        </p:nvSpPr>
        <p:spPr>
          <a:xfrm>
            <a:off x="1801800" y="20937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纸往中间靠拢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1862280" y="2779560"/>
            <a:ext cx="33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说明了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1865160" y="35416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体的流速越大，压强就越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21"/>
          <p:cNvSpPr/>
          <p:nvPr/>
        </p:nvSpPr>
        <p:spPr>
          <a:xfrm>
            <a:off x="1954080" y="45324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22"/>
          <p:cNvSpPr/>
          <p:nvPr/>
        </p:nvSpPr>
        <p:spPr>
          <a:xfrm>
            <a:off x="3097080" y="45324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在流体中，流速越大的位置压强越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2001960" y="657360"/>
            <a:ext cx="3224160" cy="6786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飞机的升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8" descr="飞机图片"/>
          <p:cNvPicPr/>
          <p:nvPr/>
        </p:nvPicPr>
        <p:blipFill>
          <a:blip r:embed="rId1"/>
          <a:stretch/>
        </p:blipFill>
        <p:spPr>
          <a:xfrm>
            <a:off x="2666880" y="1714680"/>
            <a:ext cx="648504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3"/>
          <p:cNvSpPr/>
          <p:nvPr/>
        </p:nvSpPr>
        <p:spPr>
          <a:xfrm>
            <a:off x="2209680" y="1371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飞机机翼的形状：底平上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Group 17"/>
          <p:cNvGrpSpPr/>
          <p:nvPr/>
        </p:nvGrpSpPr>
        <p:grpSpPr>
          <a:xfrm>
            <a:off x="6934320" y="1447920"/>
            <a:ext cx="533160" cy="685800"/>
            <a:chOff x="6934320" y="1447920"/>
            <a:chExt cx="533160" cy="685800"/>
          </a:xfrm>
        </p:grpSpPr>
        <p:sp>
          <p:nvSpPr>
            <p:cNvPr id="256" name="Line 8"/>
            <p:cNvSpPr/>
            <p:nvPr/>
          </p:nvSpPr>
          <p:spPr>
            <a:xfrm>
              <a:off x="6934320" y="1447920"/>
              <a:ext cx="533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6934320" y="1828800"/>
              <a:ext cx="533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>
              <a:off x="6934320" y="2133720"/>
              <a:ext cx="533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Line 4"/>
          <p:cNvSpPr/>
          <p:nvPr/>
        </p:nvSpPr>
        <p:spPr>
          <a:xfrm>
            <a:off x="7543800" y="1828800"/>
            <a:ext cx="2438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5"/>
          <p:cNvSpPr/>
          <p:nvPr/>
        </p:nvSpPr>
        <p:spPr>
          <a:xfrm>
            <a:off x="7543800" y="1143000"/>
            <a:ext cx="2405160" cy="741240"/>
          </a:xfrm>
          <a:custGeom>
            <a:avLst/>
            <a:gdLst/>
            <a:ahLst/>
            <a:rect l="l" t="t" r="r" b="b"/>
            <a:pathLst>
              <a:path w="1515" h="467">
                <a:moveTo>
                  <a:pt x="0" y="419"/>
                </a:moveTo>
                <a:cubicBezTo>
                  <a:pt x="17" y="390"/>
                  <a:pt x="53" y="299"/>
                  <a:pt x="101" y="243"/>
                </a:cubicBezTo>
                <a:cubicBezTo>
                  <a:pt x="149" y="187"/>
                  <a:pt x="203" y="110"/>
                  <a:pt x="291" y="80"/>
                </a:cubicBezTo>
                <a:cubicBezTo>
                  <a:pt x="379" y="50"/>
                  <a:pt x="427" y="0"/>
                  <a:pt x="631" y="64"/>
                </a:cubicBezTo>
                <a:cubicBezTo>
                  <a:pt x="835" y="128"/>
                  <a:pt x="1368" y="400"/>
                  <a:pt x="1515" y="467"/>
                </a:cubicBezTo>
              </a:path>
            </a:pathLst>
          </a:custGeom>
          <a:solidFill>
            <a:srgbClr val="dddddd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7543800" y="990720"/>
            <a:ext cx="2819160" cy="812520"/>
            <a:chOff x="7543800" y="990720"/>
            <a:chExt cx="2819160" cy="812520"/>
          </a:xfrm>
        </p:grpSpPr>
        <p:sp>
          <p:nvSpPr>
            <p:cNvPr id="262" name="Freeform 13"/>
            <p:cNvSpPr/>
            <p:nvPr/>
          </p:nvSpPr>
          <p:spPr>
            <a:xfrm>
              <a:off x="7543800" y="990720"/>
              <a:ext cx="2658240" cy="812520"/>
            </a:xfrm>
            <a:custGeom>
              <a:avLst/>
              <a:gdLst/>
              <a:ahLst/>
              <a:rect l="l" t="t" r="r" b="b"/>
              <a:pathLst>
                <a:path w="1584" h="536">
                  <a:moveTo>
                    <a:pt x="0" y="312"/>
                  </a:moveTo>
                  <a:cubicBezTo>
                    <a:pt x="32" y="156"/>
                    <a:pt x="64" y="0"/>
                    <a:pt x="288" y="24"/>
                  </a:cubicBezTo>
                  <a:cubicBezTo>
                    <a:pt x="512" y="48"/>
                    <a:pt x="1128" y="376"/>
                    <a:pt x="1344" y="456"/>
                  </a:cubicBezTo>
                  <a:cubicBezTo>
                    <a:pt x="1560" y="536"/>
                    <a:pt x="1544" y="496"/>
                    <a:pt x="1584" y="504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10040760" y="1754640"/>
              <a:ext cx="322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Line 16"/>
          <p:cNvSpPr/>
          <p:nvPr/>
        </p:nvSpPr>
        <p:spPr>
          <a:xfrm>
            <a:off x="7620120" y="2057400"/>
            <a:ext cx="259056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Group 34"/>
          <p:cNvGrpSpPr/>
          <p:nvPr/>
        </p:nvGrpSpPr>
        <p:grpSpPr>
          <a:xfrm>
            <a:off x="8077320" y="1905120"/>
            <a:ext cx="1371600" cy="914400"/>
            <a:chOff x="8077320" y="1905120"/>
            <a:chExt cx="1371600" cy="914400"/>
          </a:xfrm>
        </p:grpSpPr>
        <p:sp>
          <p:nvSpPr>
            <p:cNvPr id="266" name="Line 18"/>
            <p:cNvSpPr/>
            <p:nvPr/>
          </p:nvSpPr>
          <p:spPr>
            <a:xfrm flipV="1">
              <a:off x="8077320" y="1905120"/>
              <a:ext cx="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Line 19"/>
            <p:cNvSpPr/>
            <p:nvPr/>
          </p:nvSpPr>
          <p:spPr>
            <a:xfrm flipV="1">
              <a:off x="8534520" y="1905120"/>
              <a:ext cx="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Line 20"/>
            <p:cNvSpPr/>
            <p:nvPr/>
          </p:nvSpPr>
          <p:spPr>
            <a:xfrm flipV="1">
              <a:off x="8991720" y="1905120"/>
              <a:ext cx="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Line 21"/>
            <p:cNvSpPr/>
            <p:nvPr/>
          </p:nvSpPr>
          <p:spPr>
            <a:xfrm flipV="1">
              <a:off x="9448920" y="1905120"/>
              <a:ext cx="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Group 27"/>
          <p:cNvGrpSpPr/>
          <p:nvPr/>
        </p:nvGrpSpPr>
        <p:grpSpPr>
          <a:xfrm>
            <a:off x="8001000" y="762120"/>
            <a:ext cx="1371600" cy="838080"/>
            <a:chOff x="8001000" y="762120"/>
            <a:chExt cx="1371600" cy="838080"/>
          </a:xfrm>
        </p:grpSpPr>
        <p:sp>
          <p:nvSpPr>
            <p:cNvPr id="271" name="Line 22"/>
            <p:cNvSpPr/>
            <p:nvPr/>
          </p:nvSpPr>
          <p:spPr>
            <a:xfrm>
              <a:off x="8001000" y="838080"/>
              <a:ext cx="0" cy="457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Line 23"/>
            <p:cNvSpPr/>
            <p:nvPr/>
          </p:nvSpPr>
          <p:spPr>
            <a:xfrm>
              <a:off x="8458200" y="762120"/>
              <a:ext cx="0" cy="457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Line 24"/>
            <p:cNvSpPr/>
            <p:nvPr/>
          </p:nvSpPr>
          <p:spPr>
            <a:xfrm>
              <a:off x="8839440" y="914400"/>
              <a:ext cx="0" cy="457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Line 25"/>
            <p:cNvSpPr/>
            <p:nvPr/>
          </p:nvSpPr>
          <p:spPr>
            <a:xfrm>
              <a:off x="9372600" y="1143000"/>
              <a:ext cx="0" cy="457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5" name="Text Box 30"/>
          <p:cNvSpPr/>
          <p:nvPr/>
        </p:nvSpPr>
        <p:spPr>
          <a:xfrm>
            <a:off x="2209680" y="32004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相等的时间里，机翼上下气流通过的路程不同，即气体的流速不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31"/>
          <p:cNvSpPr/>
          <p:nvPr/>
        </p:nvSpPr>
        <p:spPr>
          <a:xfrm>
            <a:off x="2209680" y="472428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飞机机翼上面气流的速度大，气体的压强小</a:t>
            </a:r>
            <a:r>
              <a:rPr b="1" lang="en-US" sz="2800" spc="-1" strike="noStrike">
                <a:solidFill>
                  <a:srgbClr val="990000"/>
                </a:solidFill>
                <a:latin typeface="宋体"/>
              </a:rPr>
              <a:t>;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下面的气流速度小，气体的压强大。因此在上下表面产生了压强差，这就是向上的升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2270160" y="1432800"/>
            <a:ext cx="80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机翼上下表面的压强差是产生升力的原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31" descr="20053420231"/>
          <p:cNvPicPr/>
          <p:nvPr/>
        </p:nvPicPr>
        <p:blipFill>
          <a:blip r:embed="rId1"/>
          <a:stretch/>
        </p:blipFill>
        <p:spPr>
          <a:xfrm>
            <a:off x="2000160" y="2438280"/>
            <a:ext cx="4267440" cy="299880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32"/>
          <p:cNvGrpSpPr/>
          <p:nvPr/>
        </p:nvGrpSpPr>
        <p:grpSpPr>
          <a:xfrm>
            <a:off x="5961240" y="2573280"/>
            <a:ext cx="3597120" cy="3109680"/>
            <a:chOff x="5961240" y="2573280"/>
            <a:chExt cx="3597120" cy="3109680"/>
          </a:xfrm>
        </p:grpSpPr>
        <p:pic>
          <p:nvPicPr>
            <p:cNvPr id="280" name="Picture 33" descr="20053420232"/>
            <p:cNvPicPr/>
            <p:nvPr/>
          </p:nvPicPr>
          <p:blipFill>
            <a:blip r:embed="rId2"/>
            <a:stretch/>
          </p:blipFill>
          <p:spPr>
            <a:xfrm>
              <a:off x="5961240" y="2573280"/>
              <a:ext cx="3597120" cy="288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Line 34"/>
            <p:cNvSpPr/>
            <p:nvPr/>
          </p:nvSpPr>
          <p:spPr>
            <a:xfrm>
              <a:off x="7643880" y="3845520"/>
              <a:ext cx="0" cy="50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Line 35"/>
            <p:cNvSpPr/>
            <p:nvPr/>
          </p:nvSpPr>
          <p:spPr>
            <a:xfrm>
              <a:off x="6940440" y="3511080"/>
              <a:ext cx="0" cy="50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Line 36"/>
            <p:cNvSpPr/>
            <p:nvPr/>
          </p:nvSpPr>
          <p:spPr>
            <a:xfrm>
              <a:off x="7292160" y="3594960"/>
              <a:ext cx="0" cy="50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Line 37"/>
            <p:cNvSpPr/>
            <p:nvPr/>
          </p:nvSpPr>
          <p:spPr>
            <a:xfrm flipV="1">
              <a:off x="6869880" y="4513680"/>
              <a:ext cx="0" cy="751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Line 38"/>
            <p:cNvSpPr/>
            <p:nvPr/>
          </p:nvSpPr>
          <p:spPr>
            <a:xfrm flipV="1">
              <a:off x="7221600" y="4680720"/>
              <a:ext cx="0" cy="751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Line 39"/>
            <p:cNvSpPr/>
            <p:nvPr/>
          </p:nvSpPr>
          <p:spPr>
            <a:xfrm flipV="1">
              <a:off x="7573680" y="4931280"/>
              <a:ext cx="0" cy="751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1955880" y="714240"/>
            <a:ext cx="3465360" cy="5205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动手做一个机翼模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11" descr=""/>
          <p:cNvPicPr/>
          <p:nvPr/>
        </p:nvPicPr>
        <p:blipFill>
          <a:blip r:embed="rId1"/>
          <a:stretch/>
        </p:blipFill>
        <p:spPr>
          <a:xfrm>
            <a:off x="2720880" y="1477800"/>
            <a:ext cx="6532560" cy="20955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2" descr=""/>
          <p:cNvPicPr/>
          <p:nvPr/>
        </p:nvPicPr>
        <p:blipFill>
          <a:blip r:embed="rId2"/>
          <a:stretch/>
        </p:blipFill>
        <p:spPr>
          <a:xfrm>
            <a:off x="3216240" y="3728880"/>
            <a:ext cx="528624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1"/>
          <p:cNvSpPr/>
          <p:nvPr/>
        </p:nvSpPr>
        <p:spPr>
          <a:xfrm>
            <a:off x="2033640" y="587520"/>
            <a:ext cx="43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视频讲解：飞机的升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ShockwaveFlash1"/>
          <p:cNvGraphicFramePr/>
          <p:nvPr/>
        </p:nvGraphicFramePr>
        <p:xfrm>
          <a:off x="2428920" y="1449360"/>
          <a:ext cx="758016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1449360"/>
                    <a:ext cx="758016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4"/>
          <p:cNvSpPr/>
          <p:nvPr/>
        </p:nvSpPr>
        <p:spPr>
          <a:xfrm>
            <a:off x="1895400" y="657360"/>
            <a:ext cx="8145360" cy="6786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、生活中有关流体压强与流速关系的现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9258480" y="2068560"/>
            <a:ext cx="555480" cy="204372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画演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5" name="ShockwaveFlash1"/>
          <p:cNvGraphicFramePr/>
          <p:nvPr/>
        </p:nvGraphicFramePr>
        <p:xfrm>
          <a:off x="2119320" y="1494000"/>
          <a:ext cx="6781680" cy="46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9320" y="1494000"/>
                    <a:ext cx="6781680" cy="46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两船相撞的原因"/>
          <p:cNvPicPr/>
          <p:nvPr/>
        </p:nvPicPr>
        <p:blipFill>
          <a:blip r:embed="rId1"/>
          <a:stretch/>
        </p:blipFill>
        <p:spPr>
          <a:xfrm>
            <a:off x="1992240" y="1555920"/>
            <a:ext cx="3417840" cy="35287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5600880" y="1739880"/>
            <a:ext cx="454320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艘高速行驶的轮船如果靠得太近，船间的海水流速大于船两边的海水的流速，两船之间的海水对船产生的压强小于船两边的海水对船的压强，所以两船会发生碰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WordArt 3" descr=""/>
          <p:cNvPicPr/>
          <p:nvPr/>
        </p:nvPicPr>
        <p:blipFill>
          <a:blip r:embed="rId1"/>
          <a:stretch/>
        </p:blipFill>
        <p:spPr>
          <a:xfrm>
            <a:off x="2809800" y="1822320"/>
            <a:ext cx="6139080" cy="25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8"/>
          <p:cNvGrpSpPr/>
          <p:nvPr/>
        </p:nvGrpSpPr>
        <p:grpSpPr>
          <a:xfrm>
            <a:off x="3246480" y="1239840"/>
            <a:ext cx="4545000" cy="718920"/>
            <a:chOff x="3246480" y="1239840"/>
            <a:chExt cx="4545000" cy="718920"/>
          </a:xfrm>
        </p:grpSpPr>
        <p:pic>
          <p:nvPicPr>
            <p:cNvPr id="300" name="TextBox 4" descr=""/>
            <p:cNvPicPr/>
            <p:nvPr/>
          </p:nvPicPr>
          <p:blipFill>
            <a:blip r:embed="rId1"/>
            <a:stretch/>
          </p:blipFill>
          <p:spPr>
            <a:xfrm>
              <a:off x="3246480" y="1239840"/>
              <a:ext cx="45450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Box 13"/>
            <p:cNvSpPr/>
            <p:nvPr/>
          </p:nvSpPr>
          <p:spPr>
            <a:xfrm>
              <a:off x="3443400" y="1350720"/>
              <a:ext cx="42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草原犬鼠的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“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空调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”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洞穴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2" name="Picture 37" descr="草原犬鼠"/>
          <p:cNvPicPr/>
          <p:nvPr/>
        </p:nvPicPr>
        <p:blipFill>
          <a:blip r:embed="rId2"/>
          <a:stretch/>
        </p:blipFill>
        <p:spPr>
          <a:xfrm>
            <a:off x="2300400" y="2544840"/>
            <a:ext cx="2279520" cy="2925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9" descr=""/>
          <p:cNvPicPr/>
          <p:nvPr/>
        </p:nvPicPr>
        <p:blipFill>
          <a:blip r:embed="rId3"/>
          <a:stretch/>
        </p:blipFill>
        <p:spPr>
          <a:xfrm>
            <a:off x="5270400" y="2184480"/>
            <a:ext cx="4724640" cy="33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11"/>
          <p:cNvGrpSpPr/>
          <p:nvPr/>
        </p:nvGrpSpPr>
        <p:grpSpPr>
          <a:xfrm>
            <a:off x="4340160" y="1808280"/>
            <a:ext cx="6327720" cy="4744800"/>
            <a:chOff x="4340160" y="1808280"/>
            <a:chExt cx="6327720" cy="4744800"/>
          </a:xfrm>
        </p:grpSpPr>
        <p:pic>
          <p:nvPicPr>
            <p:cNvPr id="305" name="Picture 4" descr="地铁站台的安全线和安全门"/>
            <p:cNvPicPr/>
            <p:nvPr/>
          </p:nvPicPr>
          <p:blipFill>
            <a:blip r:embed="rId1"/>
            <a:stretch/>
          </p:blipFill>
          <p:spPr>
            <a:xfrm>
              <a:off x="4340160" y="1808280"/>
              <a:ext cx="6327720" cy="4744800"/>
            </a:xfrm>
            <a:prstGeom prst="rect">
              <a:avLst/>
            </a:prstGeom>
            <a:ln w="38160">
              <a:solidFill>
                <a:srgbClr val="5b9bd5"/>
              </a:solidFill>
              <a:miter/>
            </a:ln>
          </p:spPr>
        </p:pic>
        <p:sp>
          <p:nvSpPr>
            <p:cNvPr id="306" name="Text Box 5"/>
            <p:cNvSpPr/>
            <p:nvPr/>
          </p:nvSpPr>
          <p:spPr>
            <a:xfrm>
              <a:off x="7131240" y="6014880"/>
              <a:ext cx="34653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地铁站台安装屏蔽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Group 10"/>
          <p:cNvGrpSpPr/>
          <p:nvPr/>
        </p:nvGrpSpPr>
        <p:grpSpPr>
          <a:xfrm>
            <a:off x="1685880" y="1179360"/>
            <a:ext cx="6200640" cy="4648320"/>
            <a:chOff x="1685880" y="1179360"/>
            <a:chExt cx="6200640" cy="4648320"/>
          </a:xfrm>
        </p:grpSpPr>
        <p:pic>
          <p:nvPicPr>
            <p:cNvPr id="308" name="Picture 9" descr="铁路防护网2"/>
            <p:cNvPicPr/>
            <p:nvPr/>
          </p:nvPicPr>
          <p:blipFill>
            <a:blip r:embed="rId2"/>
            <a:stretch/>
          </p:blipFill>
          <p:spPr>
            <a:xfrm>
              <a:off x="1695240" y="1179360"/>
              <a:ext cx="6191280" cy="4648320"/>
            </a:xfrm>
            <a:prstGeom prst="rect">
              <a:avLst/>
            </a:prstGeom>
            <a:ln w="38160">
              <a:solidFill>
                <a:srgbClr val="5b9bd5"/>
              </a:solidFill>
              <a:miter/>
            </a:ln>
          </p:spPr>
        </p:pic>
        <p:sp>
          <p:nvSpPr>
            <p:cNvPr id="309" name="Text Box 7"/>
            <p:cNvSpPr/>
            <p:nvPr/>
          </p:nvSpPr>
          <p:spPr>
            <a:xfrm>
              <a:off x="1685880" y="5303880"/>
              <a:ext cx="2746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铁路旁有防护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9" descr="铁路站台上的安全线"/>
          <p:cNvPicPr/>
          <p:nvPr/>
        </p:nvPicPr>
        <p:blipFill>
          <a:blip r:embed="rId1"/>
          <a:stretch/>
        </p:blipFill>
        <p:spPr>
          <a:xfrm>
            <a:off x="1523880" y="2036880"/>
            <a:ext cx="4392720" cy="3693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地铁站台上的安全线"/>
          <p:cNvPicPr/>
          <p:nvPr/>
        </p:nvPicPr>
        <p:blipFill>
          <a:blip r:embed="rId2"/>
          <a:stretch/>
        </p:blipFill>
        <p:spPr>
          <a:xfrm>
            <a:off x="6186600" y="1179360"/>
            <a:ext cx="3870360" cy="502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05" descr=""/>
          <p:cNvPicPr/>
          <p:nvPr/>
        </p:nvPicPr>
        <p:blipFill>
          <a:blip r:embed="rId1"/>
          <a:stretch/>
        </p:blipFill>
        <p:spPr>
          <a:xfrm>
            <a:off x="2090880" y="1133640"/>
            <a:ext cx="3941640" cy="517032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26"/>
          <p:cNvSpPr/>
          <p:nvPr/>
        </p:nvSpPr>
        <p:spPr>
          <a:xfrm>
            <a:off x="2495520" y="5229360"/>
            <a:ext cx="13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化油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27" descr="079609164223307"/>
          <p:cNvPicPr/>
          <p:nvPr/>
        </p:nvPicPr>
        <p:blipFill>
          <a:blip r:embed="rId2"/>
          <a:stretch/>
        </p:blipFill>
        <p:spPr>
          <a:xfrm>
            <a:off x="6365880" y="1268280"/>
            <a:ext cx="4048200" cy="26622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28"/>
          <p:cNvSpPr/>
          <p:nvPr/>
        </p:nvSpPr>
        <p:spPr>
          <a:xfrm>
            <a:off x="7535880" y="4915080"/>
            <a:ext cx="13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喷雾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802880" y="1417680"/>
            <a:ext cx="8487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体压强规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体流速变快的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力所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吹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力带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火车的安全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定的流体在相同时间内通过路程大的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位置流速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机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定的流体在相同时间内通过横截面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的位置流速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轮船不能并排航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流体现象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弄清流速关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再分析压强关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最后得出可能发生的现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WordArt 2"/>
          <p:cNvSpPr txBox="1"/>
          <p:nvPr/>
        </p:nvSpPr>
        <p:spPr>
          <a:xfrm>
            <a:off x="1779480" y="333360"/>
            <a:ext cx="238788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+mn-ea"/>
              </a:rPr>
              <a:t> 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+mn-ea"/>
              <a:ea typeface="+mn-ea"/>
            </a:endParaRPr>
          </a:p>
        </p:txBody>
      </p:sp>
      <p:sp>
        <p:nvSpPr>
          <p:cNvPr id="318" name="WordArt 2"/>
          <p:cNvSpPr txBox="1"/>
          <p:nvPr/>
        </p:nvSpPr>
        <p:spPr>
          <a:xfrm>
            <a:off x="1809720" y="590400"/>
            <a:ext cx="20066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+mn-ea"/>
              </a:rPr>
              <a:t>知识梳理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+mn-ea"/>
              <a:ea typeface="+mn-e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5"/>
          <p:cNvSpPr/>
          <p:nvPr/>
        </p:nvSpPr>
        <p:spPr>
          <a:xfrm>
            <a:off x="1981080" y="19764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在气体和液体中，流速越大的位置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1828800" y="32209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飞机前进时，对机翼来说，上方空气流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压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，而下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空气流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压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从而形成了压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产生了向上的升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7753320" y="1919160"/>
            <a:ext cx="17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压强越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8880480" y="316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6948360" y="359424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3035160" y="36241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9063000" y="36687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12"/>
          <p:cNvSpPr/>
          <p:nvPr/>
        </p:nvSpPr>
        <p:spPr>
          <a:xfrm>
            <a:off x="5024520" y="40687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WordArt 2"/>
          <p:cNvSpPr txBox="1"/>
          <p:nvPr/>
        </p:nvSpPr>
        <p:spPr>
          <a:xfrm>
            <a:off x="1839960" y="677880"/>
            <a:ext cx="23875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+mn-ea"/>
              </a:rPr>
              <a:t>随堂练习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+mn-ea"/>
              <a:ea typeface="+mn-e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5"/>
          <p:cNvSpPr/>
          <p:nvPr/>
        </p:nvSpPr>
        <p:spPr>
          <a:xfrm>
            <a:off x="2157480" y="1036800"/>
            <a:ext cx="8300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国铁路大提速后，站台上的乘客与列车间的空气流速和压强也发生了变化，为了有效地防止安全事故的发生，站台的安全线距离由原来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关于列车与乘客间空气流速及压强的变化，判断正确的是（     ）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流速变大，压强变小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流速变大，压强变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流速变小，压强变大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流速变小，压强变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3836880" y="273384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3"/>
          <p:cNvSpPr/>
          <p:nvPr/>
        </p:nvSpPr>
        <p:spPr>
          <a:xfrm>
            <a:off x="2095560" y="857160"/>
            <a:ext cx="77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是否有这样的经历：撑一把雨伞行走在雨中，如图所示，一阵大风吹来，伞面可能被“吸”，严重变形。下列有关这一现象及其解释，正确的是（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伞面被向下“吸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伞上方的空气流速大于下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伞上方的空气流速等于下方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伞上方的空气流速小于下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6" descr="未命名"/>
          <p:cNvPicPr/>
          <p:nvPr/>
        </p:nvPicPr>
        <p:blipFill>
          <a:blip r:embed="rId1"/>
          <a:stretch/>
        </p:blipFill>
        <p:spPr>
          <a:xfrm>
            <a:off x="8667720" y="3714840"/>
            <a:ext cx="1593720" cy="22399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7"/>
          <p:cNvSpPr/>
          <p:nvPr/>
        </p:nvSpPr>
        <p:spPr>
          <a:xfrm>
            <a:off x="4024440" y="21430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3" descr="140410"/>
          <p:cNvPicPr/>
          <p:nvPr/>
        </p:nvPicPr>
        <p:blipFill>
          <a:blip r:embed="rId1"/>
          <a:stretch/>
        </p:blipFill>
        <p:spPr>
          <a:xfrm>
            <a:off x="6381720" y="2928960"/>
            <a:ext cx="3786120" cy="334332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4"/>
          <p:cNvSpPr/>
          <p:nvPr/>
        </p:nvSpPr>
        <p:spPr>
          <a:xfrm>
            <a:off x="1828800" y="1214280"/>
            <a:ext cx="883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科技管内，有一个风洞实验室，一架模型飞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固定在托盘测力计上，如图所示，当无风时，托盘测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示数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有风时，托盘测力计示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且风速越大，托盘测力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示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8524800" y="2071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小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2738520" y="292896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越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40"/>
          <p:cNvSpPr/>
          <p:nvPr/>
        </p:nvSpPr>
        <p:spPr>
          <a:xfrm>
            <a:off x="1998720" y="687240"/>
            <a:ext cx="749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诗人杜甫在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茅屋为秋风所破歌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中写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八月秋高风怒号，卷我屋上三重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，请你分析诗中包含的物理道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" name="Group 53"/>
          <p:cNvGrpSpPr/>
          <p:nvPr/>
        </p:nvGrpSpPr>
        <p:grpSpPr>
          <a:xfrm>
            <a:off x="3952800" y="2571840"/>
            <a:ext cx="4284720" cy="1177920"/>
            <a:chOff x="3952800" y="2571840"/>
            <a:chExt cx="4284720" cy="1177920"/>
          </a:xfrm>
        </p:grpSpPr>
        <p:sp>
          <p:nvSpPr>
            <p:cNvPr id="339" name="Freeform 46"/>
            <p:cNvSpPr/>
            <p:nvPr/>
          </p:nvSpPr>
          <p:spPr>
            <a:xfrm>
              <a:off x="3952800" y="3024360"/>
              <a:ext cx="4240440" cy="725400"/>
            </a:xfrm>
            <a:custGeom>
              <a:avLst/>
              <a:gdLst/>
              <a:ahLst/>
              <a:rect l="l" t="t" r="r" b="b"/>
              <a:pathLst>
                <a:path w="2853" h="457">
                  <a:moveTo>
                    <a:pt x="0" y="457"/>
                  </a:moveTo>
                  <a:cubicBezTo>
                    <a:pt x="59" y="451"/>
                    <a:pt x="249" y="433"/>
                    <a:pt x="351" y="412"/>
                  </a:cubicBezTo>
                  <a:cubicBezTo>
                    <a:pt x="453" y="391"/>
                    <a:pt x="525" y="374"/>
                    <a:pt x="612" y="331"/>
                  </a:cubicBezTo>
                  <a:cubicBezTo>
                    <a:pt x="699" y="288"/>
                    <a:pt x="798" y="202"/>
                    <a:pt x="876" y="153"/>
                  </a:cubicBezTo>
                  <a:cubicBezTo>
                    <a:pt x="954" y="104"/>
                    <a:pt x="1018" y="64"/>
                    <a:pt x="1077" y="39"/>
                  </a:cubicBezTo>
                  <a:cubicBezTo>
                    <a:pt x="1136" y="14"/>
                    <a:pt x="1185" y="0"/>
                    <a:pt x="1230" y="3"/>
                  </a:cubicBezTo>
                  <a:cubicBezTo>
                    <a:pt x="1275" y="6"/>
                    <a:pt x="1260" y="18"/>
                    <a:pt x="1347" y="57"/>
                  </a:cubicBezTo>
                  <a:cubicBezTo>
                    <a:pt x="1434" y="96"/>
                    <a:pt x="1631" y="182"/>
                    <a:pt x="1752" y="237"/>
                  </a:cubicBezTo>
                  <a:cubicBezTo>
                    <a:pt x="1873" y="292"/>
                    <a:pt x="1965" y="359"/>
                    <a:pt x="2073" y="387"/>
                  </a:cubicBezTo>
                  <a:cubicBezTo>
                    <a:pt x="2181" y="415"/>
                    <a:pt x="2273" y="394"/>
                    <a:pt x="2403" y="403"/>
                  </a:cubicBezTo>
                  <a:cubicBezTo>
                    <a:pt x="2533" y="412"/>
                    <a:pt x="2759" y="431"/>
                    <a:pt x="2853" y="43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47"/>
            <p:cNvSpPr/>
            <p:nvPr/>
          </p:nvSpPr>
          <p:spPr>
            <a:xfrm>
              <a:off x="4024440" y="2892600"/>
              <a:ext cx="4200480" cy="574560"/>
            </a:xfrm>
            <a:custGeom>
              <a:avLst/>
              <a:gdLst/>
              <a:ahLst/>
              <a:rect l="l" t="t" r="r" b="b"/>
              <a:pathLst>
                <a:path w="2826" h="362">
                  <a:moveTo>
                    <a:pt x="0" y="353"/>
                  </a:moveTo>
                  <a:cubicBezTo>
                    <a:pt x="75" y="342"/>
                    <a:pt x="327" y="328"/>
                    <a:pt x="450" y="290"/>
                  </a:cubicBezTo>
                  <a:cubicBezTo>
                    <a:pt x="573" y="252"/>
                    <a:pt x="646" y="172"/>
                    <a:pt x="738" y="128"/>
                  </a:cubicBezTo>
                  <a:cubicBezTo>
                    <a:pt x="830" y="84"/>
                    <a:pt x="899" y="45"/>
                    <a:pt x="999" y="29"/>
                  </a:cubicBezTo>
                  <a:cubicBezTo>
                    <a:pt x="1099" y="13"/>
                    <a:pt x="1210" y="0"/>
                    <a:pt x="1341" y="29"/>
                  </a:cubicBezTo>
                  <a:cubicBezTo>
                    <a:pt x="1472" y="58"/>
                    <a:pt x="1662" y="158"/>
                    <a:pt x="1785" y="203"/>
                  </a:cubicBezTo>
                  <a:cubicBezTo>
                    <a:pt x="1908" y="248"/>
                    <a:pt x="1984" y="274"/>
                    <a:pt x="2079" y="299"/>
                  </a:cubicBezTo>
                  <a:cubicBezTo>
                    <a:pt x="2174" y="324"/>
                    <a:pt x="2279" y="347"/>
                    <a:pt x="2358" y="353"/>
                  </a:cubicBezTo>
                  <a:cubicBezTo>
                    <a:pt x="2437" y="359"/>
                    <a:pt x="2478" y="334"/>
                    <a:pt x="2556" y="335"/>
                  </a:cubicBezTo>
                  <a:cubicBezTo>
                    <a:pt x="2634" y="336"/>
                    <a:pt x="2770" y="357"/>
                    <a:pt x="2826" y="36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48"/>
            <p:cNvSpPr/>
            <p:nvPr/>
          </p:nvSpPr>
          <p:spPr>
            <a:xfrm>
              <a:off x="4024440" y="2772000"/>
              <a:ext cx="4186080" cy="431640"/>
            </a:xfrm>
            <a:custGeom>
              <a:avLst/>
              <a:gdLst/>
              <a:ahLst/>
              <a:rect l="l" t="t" r="r" b="b"/>
              <a:pathLst>
                <a:path w="2817" h="272">
                  <a:moveTo>
                    <a:pt x="0" y="261"/>
                  </a:moveTo>
                  <a:cubicBezTo>
                    <a:pt x="54" y="258"/>
                    <a:pt x="228" y="255"/>
                    <a:pt x="324" y="243"/>
                  </a:cubicBezTo>
                  <a:cubicBezTo>
                    <a:pt x="420" y="231"/>
                    <a:pt x="483" y="221"/>
                    <a:pt x="576" y="186"/>
                  </a:cubicBezTo>
                  <a:cubicBezTo>
                    <a:pt x="669" y="151"/>
                    <a:pt x="779" y="62"/>
                    <a:pt x="882" y="33"/>
                  </a:cubicBezTo>
                  <a:cubicBezTo>
                    <a:pt x="985" y="4"/>
                    <a:pt x="1064" y="0"/>
                    <a:pt x="1197" y="9"/>
                  </a:cubicBezTo>
                  <a:cubicBezTo>
                    <a:pt x="1330" y="18"/>
                    <a:pt x="1542" y="58"/>
                    <a:pt x="1683" y="87"/>
                  </a:cubicBezTo>
                  <a:cubicBezTo>
                    <a:pt x="1824" y="116"/>
                    <a:pt x="1916" y="157"/>
                    <a:pt x="2043" y="186"/>
                  </a:cubicBezTo>
                  <a:cubicBezTo>
                    <a:pt x="2170" y="215"/>
                    <a:pt x="2319" y="250"/>
                    <a:pt x="2448" y="261"/>
                  </a:cubicBezTo>
                  <a:cubicBezTo>
                    <a:pt x="2577" y="272"/>
                    <a:pt x="2740" y="254"/>
                    <a:pt x="2817" y="25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49"/>
            <p:cNvSpPr/>
            <p:nvPr/>
          </p:nvSpPr>
          <p:spPr>
            <a:xfrm>
              <a:off x="4095720" y="2665440"/>
              <a:ext cx="4065840" cy="355680"/>
            </a:xfrm>
            <a:custGeom>
              <a:avLst/>
              <a:gdLst/>
              <a:ahLst/>
              <a:rect l="l" t="t" r="r" b="b"/>
              <a:pathLst>
                <a:path w="2736" h="224">
                  <a:moveTo>
                    <a:pt x="0" y="145"/>
                  </a:moveTo>
                  <a:cubicBezTo>
                    <a:pt x="65" y="145"/>
                    <a:pt x="270" y="161"/>
                    <a:pt x="393" y="145"/>
                  </a:cubicBezTo>
                  <a:cubicBezTo>
                    <a:pt x="516" y="129"/>
                    <a:pt x="611" y="69"/>
                    <a:pt x="738" y="46"/>
                  </a:cubicBezTo>
                  <a:cubicBezTo>
                    <a:pt x="865" y="23"/>
                    <a:pt x="1015" y="0"/>
                    <a:pt x="1158" y="4"/>
                  </a:cubicBezTo>
                  <a:cubicBezTo>
                    <a:pt x="1301" y="8"/>
                    <a:pt x="1446" y="48"/>
                    <a:pt x="1599" y="73"/>
                  </a:cubicBezTo>
                  <a:cubicBezTo>
                    <a:pt x="1752" y="98"/>
                    <a:pt x="1932" y="130"/>
                    <a:pt x="2076" y="154"/>
                  </a:cubicBezTo>
                  <a:cubicBezTo>
                    <a:pt x="2220" y="178"/>
                    <a:pt x="2356" y="210"/>
                    <a:pt x="2466" y="217"/>
                  </a:cubicBezTo>
                  <a:cubicBezTo>
                    <a:pt x="2576" y="224"/>
                    <a:pt x="2680" y="203"/>
                    <a:pt x="2736" y="19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50"/>
            <p:cNvSpPr/>
            <p:nvPr/>
          </p:nvSpPr>
          <p:spPr>
            <a:xfrm>
              <a:off x="4064040" y="2571840"/>
              <a:ext cx="4173480" cy="206280"/>
            </a:xfrm>
            <a:custGeom>
              <a:avLst/>
              <a:gdLst/>
              <a:ahLst/>
              <a:rect l="l" t="t" r="r" b="b"/>
              <a:pathLst>
                <a:path w="2808" h="130">
                  <a:moveTo>
                    <a:pt x="0" y="63"/>
                  </a:moveTo>
                  <a:cubicBezTo>
                    <a:pt x="67" y="64"/>
                    <a:pt x="296" y="84"/>
                    <a:pt x="405" y="81"/>
                  </a:cubicBezTo>
                  <a:cubicBezTo>
                    <a:pt x="514" y="78"/>
                    <a:pt x="575" y="55"/>
                    <a:pt x="657" y="45"/>
                  </a:cubicBezTo>
                  <a:cubicBezTo>
                    <a:pt x="739" y="35"/>
                    <a:pt x="807" y="26"/>
                    <a:pt x="900" y="18"/>
                  </a:cubicBezTo>
                  <a:cubicBezTo>
                    <a:pt x="993" y="10"/>
                    <a:pt x="1103" y="0"/>
                    <a:pt x="1215" y="0"/>
                  </a:cubicBezTo>
                  <a:cubicBezTo>
                    <a:pt x="1327" y="0"/>
                    <a:pt x="1434" y="3"/>
                    <a:pt x="1575" y="18"/>
                  </a:cubicBezTo>
                  <a:cubicBezTo>
                    <a:pt x="1716" y="33"/>
                    <a:pt x="1922" y="72"/>
                    <a:pt x="2061" y="90"/>
                  </a:cubicBezTo>
                  <a:cubicBezTo>
                    <a:pt x="2200" y="108"/>
                    <a:pt x="2297" y="122"/>
                    <a:pt x="2412" y="126"/>
                  </a:cubicBezTo>
                  <a:cubicBezTo>
                    <a:pt x="2527" y="130"/>
                    <a:pt x="2700" y="119"/>
                    <a:pt x="2754" y="117"/>
                  </a:cubicBezTo>
                  <a:cubicBezTo>
                    <a:pt x="2808" y="115"/>
                    <a:pt x="2740" y="117"/>
                    <a:pt x="2736" y="117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Group 52"/>
          <p:cNvGrpSpPr/>
          <p:nvPr/>
        </p:nvGrpSpPr>
        <p:grpSpPr>
          <a:xfrm>
            <a:off x="5094360" y="3105000"/>
            <a:ext cx="1284120" cy="1295280"/>
            <a:chOff x="5094360" y="3105000"/>
            <a:chExt cx="1284120" cy="1295280"/>
          </a:xfrm>
        </p:grpSpPr>
        <p:sp>
          <p:nvSpPr>
            <p:cNvPr id="345" name="AutoShape 43"/>
            <p:cNvSpPr/>
            <p:nvPr/>
          </p:nvSpPr>
          <p:spPr>
            <a:xfrm>
              <a:off x="5094360" y="3105000"/>
              <a:ext cx="1284120" cy="457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44"/>
            <p:cNvSpPr/>
            <p:nvPr/>
          </p:nvSpPr>
          <p:spPr>
            <a:xfrm>
              <a:off x="5165640" y="3562200"/>
              <a:ext cx="1141560" cy="838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Rectangle 45"/>
            <p:cNvSpPr/>
            <p:nvPr/>
          </p:nvSpPr>
          <p:spPr>
            <a:xfrm>
              <a:off x="5594400" y="3866760"/>
              <a:ext cx="28404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Oval 51"/>
            <p:cNvSpPr/>
            <p:nvPr/>
          </p:nvSpPr>
          <p:spPr>
            <a:xfrm>
              <a:off x="5632560" y="3209760"/>
              <a:ext cx="2142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1"/>
          <p:cNvGrpSpPr/>
          <p:nvPr/>
        </p:nvGrpSpPr>
        <p:grpSpPr>
          <a:xfrm>
            <a:off x="1865160" y="4000680"/>
            <a:ext cx="2610000" cy="2295360"/>
            <a:chOff x="1865160" y="4000680"/>
            <a:chExt cx="2610000" cy="2295360"/>
          </a:xfrm>
        </p:grpSpPr>
        <p:graphicFrame>
          <p:nvGraphicFramePr>
            <p:cNvPr id="163" name="Object 3"/>
            <p:cNvGraphicFramePr/>
            <p:nvPr/>
          </p:nvGraphicFramePr>
          <p:xfrm>
            <a:off x="1865160" y="4000680"/>
            <a:ext cx="2610000" cy="229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65160" y="4000680"/>
                      <a:ext cx="2610000" cy="2295360"/>
                    </a:xfrm>
                    <a:prstGeom prst="rect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5" name="AutoShape 23"/>
            <p:cNvSpPr/>
            <p:nvPr/>
          </p:nvSpPr>
          <p:spPr>
            <a:xfrm>
              <a:off x="3271680" y="4981320"/>
              <a:ext cx="332640" cy="112680"/>
            </a:xfrm>
            <a:prstGeom prst="can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6" name="Picture 24" descr=""/>
          <p:cNvPicPr/>
          <p:nvPr/>
        </p:nvPicPr>
        <p:blipFill>
          <a:blip r:embed="rId3"/>
          <a:stretch/>
        </p:blipFill>
        <p:spPr>
          <a:xfrm>
            <a:off x="7626240" y="3956040"/>
            <a:ext cx="2698920" cy="224316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167" name="TextBox 4"/>
          <p:cNvSpPr/>
          <p:nvPr/>
        </p:nvSpPr>
        <p:spPr>
          <a:xfrm>
            <a:off x="2316240" y="2155680"/>
            <a:ext cx="729144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下面三个实验：使劲吹气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猜想下硬币、纸条、乒乓球会怎样运动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6" descr="8-43"/>
          <p:cNvPicPr/>
          <p:nvPr/>
        </p:nvPicPr>
        <p:blipFill>
          <a:blip r:embed="rId4"/>
          <a:stretch/>
        </p:blipFill>
        <p:spPr>
          <a:xfrm>
            <a:off x="4700520" y="4000680"/>
            <a:ext cx="2745000" cy="2250720"/>
          </a:xfrm>
          <a:prstGeom prst="rect">
            <a:avLst/>
          </a:prstGeom>
          <a:ln w="28440">
            <a:solidFill>
              <a:srgbClr val="44546a"/>
            </a:solidFill>
            <a:miter/>
          </a:ln>
        </p:spPr>
      </p:pic>
      <p:sp>
        <p:nvSpPr>
          <p:cNvPr id="169" name="WordArt 2"/>
          <p:cNvSpPr txBox="1"/>
          <p:nvPr/>
        </p:nvSpPr>
        <p:spPr>
          <a:xfrm>
            <a:off x="1839960" y="647640"/>
            <a:ext cx="23875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+mn-ea"/>
              </a:rPr>
              <a:t>情境引入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+mn-ea"/>
              <a:ea typeface="+mn-e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909800" y="1743480"/>
            <a:ext cx="1892160" cy="6786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流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17"/>
          <p:cNvSpPr/>
          <p:nvPr/>
        </p:nvSpPr>
        <p:spPr>
          <a:xfrm flipH="1">
            <a:off x="5046120" y="4240080"/>
            <a:ext cx="315720" cy="1214640"/>
          </a:xfrm>
          <a:custGeom>
            <a:avLst/>
            <a:gdLst>
              <a:gd name="textAreaLeft" fmla="*/ 201240 w 315720"/>
              <a:gd name="textAreaRight" fmla="*/ 315720 w 315720"/>
              <a:gd name="textAreaTop" fmla="*/ 31320 h 1214640"/>
              <a:gd name="textAreaBottom" fmla="*/ 118332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34"/>
          <p:cNvSpPr/>
          <p:nvPr/>
        </p:nvSpPr>
        <p:spPr>
          <a:xfrm>
            <a:off x="5721480" y="4329000"/>
            <a:ext cx="229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向各个方向都有压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41"/>
          <p:cNvSpPr/>
          <p:nvPr/>
        </p:nvSpPr>
        <p:spPr>
          <a:xfrm rot="16200000">
            <a:off x="8088120" y="4617360"/>
            <a:ext cx="360360" cy="503280"/>
          </a:xfrm>
          <a:prstGeom prst="downArrow">
            <a:avLst>
              <a:gd name="adj1" fmla="val 50000"/>
              <a:gd name="adj2" fmla="val 34909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42"/>
          <p:cNvSpPr/>
          <p:nvPr/>
        </p:nvSpPr>
        <p:spPr>
          <a:xfrm>
            <a:off x="8747280" y="459900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Comic Sans MS"/>
              </a:rPr>
              <a:t>流动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211480" y="3024000"/>
            <a:ext cx="8064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气体和液体都具有流动性，统称为流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616120" y="3832560"/>
            <a:ext cx="2475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液体有压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71840" y="5092920"/>
            <a:ext cx="2475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气体有压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WordArt 2"/>
          <p:cNvSpPr txBox="1"/>
          <p:nvPr/>
        </p:nvSpPr>
        <p:spPr>
          <a:xfrm>
            <a:off x="1839960" y="571680"/>
            <a:ext cx="2387520" cy="88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+mn-ea"/>
              </a:rPr>
              <a:t>新知探究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+mn-ea"/>
              <a:ea typeface="+mn-e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3917880" y="1200240"/>
            <a:ext cx="22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  小游戏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089760" y="120024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吹硬币比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5433840" y="1798560"/>
            <a:ext cx="502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是什么力使硬币跳起来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917880" y="1820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042440" y="264312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17"/>
          <p:cNvGrpSpPr/>
          <p:nvPr/>
        </p:nvGrpSpPr>
        <p:grpSpPr>
          <a:xfrm>
            <a:off x="1523880" y="4221000"/>
            <a:ext cx="3276720" cy="1600200"/>
            <a:chOff x="1523880" y="4221000"/>
            <a:chExt cx="3276720" cy="1600200"/>
          </a:xfrm>
        </p:grpSpPr>
        <p:sp>
          <p:nvSpPr>
            <p:cNvPr id="185" name="Rectangle 8"/>
            <p:cNvSpPr/>
            <p:nvPr/>
          </p:nvSpPr>
          <p:spPr>
            <a:xfrm>
              <a:off x="2209680" y="4221000"/>
              <a:ext cx="1676520" cy="152640"/>
            </a:xfrm>
            <a:prstGeom prst="rect">
              <a:avLst/>
            </a:prstGeom>
            <a:gradFill rotWithShape="0">
              <a:gsLst>
                <a:gs pos="0">
                  <a:srgbClr val="c0bfbf"/>
                </a:gs>
                <a:gs pos="50000">
                  <a:srgbClr val="e7e6e6"/>
                </a:gs>
                <a:gs pos="100000">
                  <a:srgbClr val="c0bfb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Rectangle 9"/>
            <p:cNvSpPr/>
            <p:nvPr/>
          </p:nvSpPr>
          <p:spPr>
            <a:xfrm>
              <a:off x="1523880" y="4373640"/>
              <a:ext cx="327672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Rectangle 10"/>
            <p:cNvSpPr/>
            <p:nvPr/>
          </p:nvSpPr>
          <p:spPr>
            <a:xfrm>
              <a:off x="3809880" y="4602240"/>
              <a:ext cx="76320" cy="1218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16"/>
          <p:cNvGrpSpPr/>
          <p:nvPr/>
        </p:nvGrpSpPr>
        <p:grpSpPr>
          <a:xfrm>
            <a:off x="3504960" y="3306600"/>
            <a:ext cx="1404000" cy="762120"/>
            <a:chOff x="3504960" y="3306600"/>
            <a:chExt cx="1404000" cy="762120"/>
          </a:xfrm>
        </p:grpSpPr>
        <p:sp>
          <p:nvSpPr>
            <p:cNvPr id="189" name="Line 13"/>
            <p:cNvSpPr/>
            <p:nvPr/>
          </p:nvSpPr>
          <p:spPr>
            <a:xfrm flipH="1">
              <a:off x="3504960" y="4068720"/>
              <a:ext cx="12956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14"/>
            <p:cNvSpPr/>
            <p:nvPr/>
          </p:nvSpPr>
          <p:spPr>
            <a:xfrm flipH="1">
              <a:off x="3504960" y="3916440"/>
              <a:ext cx="12956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3874680" y="3306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空气流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Text Box 18"/>
          <p:cNvSpPr/>
          <p:nvPr/>
        </p:nvSpPr>
        <p:spPr>
          <a:xfrm>
            <a:off x="5384880" y="2654280"/>
            <a:ext cx="504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硬币向上飞的时候只有空气和它接触，桌面不可能对它产生作用了，是不是硬币上下的压强不同使它向上运动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2648520" y="546876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猜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4656240" y="49068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硬币上面的压强小，下面的压强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4095720" y="53578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宋体"/>
              </a:rPr>
              <a:t>是否是气体的压强与气体的流速有关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8"/>
          <p:cNvSpPr/>
          <p:nvPr/>
        </p:nvSpPr>
        <p:spPr>
          <a:xfrm>
            <a:off x="1838160" y="603360"/>
            <a:ext cx="5276880" cy="5814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流体压强与流速的关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6816600" y="1854360"/>
            <a:ext cx="3337200" cy="441000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4"/>
          <p:cNvSpPr/>
          <p:nvPr/>
        </p:nvSpPr>
        <p:spPr>
          <a:xfrm>
            <a:off x="4340160" y="5003640"/>
            <a:ext cx="1511280" cy="495360"/>
          </a:xfrm>
          <a:prstGeom prst="wedgeRoundRectCallout">
            <a:avLst>
              <a:gd name="adj1" fmla="val 115652"/>
              <a:gd name="adj2" fmla="val 143912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接气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2135160" y="1943280"/>
            <a:ext cx="4186440" cy="520560"/>
          </a:xfrm>
          <a:prstGeom prst="rect">
            <a:avLst/>
          </a:prstGeom>
          <a:solidFill>
            <a:srgbClr val="67b9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．研究气体压强与流速关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2225520" y="3519360"/>
            <a:ext cx="16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实验装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2243160" y="704880"/>
            <a:ext cx="1919160" cy="5814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演示实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气体"/>
          <p:cNvPicPr/>
          <p:nvPr/>
        </p:nvPicPr>
        <p:blipFill>
          <a:blip r:embed="rId1"/>
          <a:stretch/>
        </p:blipFill>
        <p:spPr>
          <a:xfrm>
            <a:off x="6770520" y="1268280"/>
            <a:ext cx="2995920" cy="37832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2398680" y="1042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现象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101"/>
          <p:cNvSpPr/>
          <p:nvPr/>
        </p:nvSpPr>
        <p:spPr>
          <a:xfrm>
            <a:off x="3530520" y="5543640"/>
            <a:ext cx="5924520" cy="641160"/>
          </a:xfrm>
          <a:prstGeom prst="roundRect">
            <a:avLst>
              <a:gd name="adj" fmla="val 9491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气体流速越大的位置，压强越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102"/>
          <p:cNvSpPr/>
          <p:nvPr/>
        </p:nvSpPr>
        <p:spPr>
          <a:xfrm>
            <a:off x="2135160" y="513864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alibri"/>
              </a:rPr>
              <a:t>结论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7" descr="气体_201212820916"/>
          <p:cNvPicPr/>
          <p:nvPr/>
        </p:nvPicPr>
        <p:blipFill>
          <a:blip r:embed="rId2"/>
          <a:stretch/>
        </p:blipFill>
        <p:spPr>
          <a:xfrm>
            <a:off x="3575160" y="1224000"/>
            <a:ext cx="2930400" cy="38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2"/>
          <p:cNvGraphicFramePr/>
          <p:nvPr/>
        </p:nvGraphicFramePr>
        <p:xfrm>
          <a:off x="2381400" y="1214280"/>
          <a:ext cx="6843600" cy="29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1400" y="1214280"/>
                    <a:ext cx="6843600" cy="29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6"/>
          <p:cNvSpPr/>
          <p:nvPr/>
        </p:nvSpPr>
        <p:spPr>
          <a:xfrm>
            <a:off x="1738440" y="5716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什么是连通器？装有同种液体的连通器有什么特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886040" y="4062240"/>
            <a:ext cx="852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将水平管子右端开口用塞于封住，然后向容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水，到达一定高度后停止灌水．容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三个细管中的液面停在同一高度上．在同一水平面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诸点处压强都等，这时的压强是流体在静止时的压强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2198520" y="615960"/>
            <a:ext cx="1903680" cy="5814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画展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" name="ShockwaveFlash1"/>
          <p:cNvGraphicFramePr/>
          <p:nvPr/>
        </p:nvGraphicFramePr>
        <p:xfrm>
          <a:off x="2035080" y="1468440"/>
          <a:ext cx="777888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5080" y="1468440"/>
                    <a:ext cx="777888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7T01:24:27Z</dcterms:created>
  <dc:creator>物理备课大师【全免费】</dc:creator>
  <dc:description>物理备课大师【全免费】</dc:description>
  <dc:language>en-US</dc:language>
  <cp:lastModifiedBy>Windows 用户</cp:lastModifiedBy>
  <dcterms:modified xsi:type="dcterms:W3CDTF">2017-12-23T00:36:01Z</dcterms:modified>
  <cp:revision>3</cp:revision>
  <dc:subject/>
  <dc:title>物理备课大师【全免费】</dc:title>
</cp:coreProperties>
</file>