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346-1C57-46F9-A3F1-C4D3D5FC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219-31C2-4BDE-B984-E9821709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7E0-D219-48AC-BEEA-32C84541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E01-0EDB-42AF-B10C-E7EE75CC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4827-1148-462D-93DC-C6307485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5581-CD9A-45C6-90C7-BC20A0C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A9A-E9F6-4D8A-B88F-F63F771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0C7-8686-4C9E-8AFE-B3E3E6F4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950-6587-4962-B11C-FEE86DB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3FF5-3FFF-49FC-B2CA-38F9516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02F-965D-4EF7-83B8-B46696C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F11-5CC6-4B2C-AB9E-E5C6622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B96F-703E-46E6-AB08-A59F430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B7B-4CD6-4DFB-AE0B-C2DCDFE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D6F-D977-43C8-AD77-260659A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0797-A198-4E00-B357-74470221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8EA-CEAC-4C60-B97C-71201649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D943-F7E5-4E54-8F89-82350323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59C5-E1DC-4E52-996B-544474AD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F0B7-CA7E-4CCB-AEF8-616E5DA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2F05-8022-4B6D-B631-65144BE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E64B-2CB3-4B6C-8857-CA5C889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77B-ABC2-42A2-9DA2-76EE90FD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AC7C-5703-4A95-9D9F-5AC3223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4544-F068-4E33-B396-E0E52A3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46FF-97C5-406D-B99D-26D53F4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DE1B-5534-4FBF-9CCB-99873A4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2DA9-32F3-4E09-B40B-F7D737C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FCB3-5592-4EAB-83A9-BAAE35C0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952E-E6FE-4DA7-9331-CDE91E18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4F-CFDC-4CC4-98E9-37FA106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71F-E61A-4E79-BE8D-F0E55AE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B3E-3AD4-4110-B00A-4D78B66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750-C105-4BA8-B27C-019185C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977-B5AA-4617-B16B-EABFA9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046-FE84-4180-8A0E-0D7EEB1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09F-E60D-40B3-96FE-BD845D65DF0D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86F-2B14-46B3-AD64-1ED0A9373A2A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C1A-92A9-4AF7-9E9C-D375DCDF4952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4205160" y="36036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银河系的概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055960" y="1120680"/>
            <a:ext cx="7918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3bd"/>
                </a:solidFill>
                <a:latin typeface="宋体"/>
              </a:rPr>
              <a:t>构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银河系是由众多恒星及星际物质组成的一个庞大的天体系统。像太阳这样的恒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亿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3bd"/>
                </a:solidFill>
                <a:latin typeface="宋体"/>
              </a:rPr>
              <a:t>形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侧视图中的银河系像个中间厚、四周薄的铁饼；俯视图中的银河系又像一个大旋涡，有四条螺旋状旋臂从中心伸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3bd"/>
                </a:solidFill>
                <a:latin typeface="宋体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银河系的直径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光年。太阳与银河系的中心相距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光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"/>
          <p:cNvSpPr/>
          <p:nvPr/>
        </p:nvSpPr>
        <p:spPr>
          <a:xfrm>
            <a:off x="2135160" y="252252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代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0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135160" y="388944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代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0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135160" y="5114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   在：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0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143160" y="134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观察到的范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1936800" y="677880"/>
            <a:ext cx="31716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宇宙有多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2005318733592723963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965320" y="655560"/>
            <a:ext cx="6286680" cy="5764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821880" y="1268280"/>
            <a:ext cx="2191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Comic Sans MS"/>
              </a:rPr>
              <a:t>宇宙的尺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月球基地"/>
          <p:cNvPicPr/>
          <p:nvPr/>
        </p:nvPicPr>
        <p:blipFill>
          <a:blip r:embed="rId1"/>
          <a:stretch/>
        </p:blipFill>
        <p:spPr>
          <a:xfrm>
            <a:off x="6167520" y="2089080"/>
            <a:ext cx="4427280" cy="3319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8517243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1569960" y="2101680"/>
            <a:ext cx="4464000" cy="3343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1527120" y="4925880"/>
            <a:ext cx="21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太空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075360" y="4863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月球基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863720" y="631800"/>
            <a:ext cx="30528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开发新家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勇气号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16200" y="2276640"/>
            <a:ext cx="4321080" cy="3243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yongqi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281640" y="2276640"/>
            <a:ext cx="4105440" cy="3240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2639880" y="692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勇气号”火星车在火星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2208240" y="596880"/>
            <a:ext cx="251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+mn-ea"/>
              </a:rPr>
              <a:t>信息浏览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+mn-ea"/>
              <a:ea typeface="+mn-e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6012720" y="67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天体的演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6" descr="黑洞1"/>
          <p:cNvPicPr/>
          <p:nvPr/>
        </p:nvPicPr>
        <p:blipFill>
          <a:blip r:embed="rId1"/>
          <a:stretch/>
        </p:blipFill>
        <p:spPr>
          <a:xfrm>
            <a:off x="6095880" y="2492280"/>
            <a:ext cx="4321440" cy="323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黑洞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1774800" y="2523960"/>
            <a:ext cx="4105440" cy="3225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5514480" y="170028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黑 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5"/>
          <p:cNvSpPr txBox="1"/>
          <p:nvPr/>
        </p:nvSpPr>
        <p:spPr>
          <a:xfrm>
            <a:off x="4871880" y="585720"/>
            <a:ext cx="17449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ea"/>
              </a:rPr>
              <a:t>太 阳 图 片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270" name="Picture 6" descr="1"/>
          <p:cNvPicPr/>
          <p:nvPr/>
        </p:nvPicPr>
        <p:blipFill>
          <a:blip r:embed="rId1"/>
          <a:stretch/>
        </p:blipFill>
        <p:spPr>
          <a:xfrm>
            <a:off x="2855880" y="1327320"/>
            <a:ext cx="2548080" cy="2457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7"/>
          <p:cNvPicPr/>
          <p:nvPr/>
        </p:nvPicPr>
        <p:blipFill>
          <a:blip r:embed="rId2"/>
          <a:stretch/>
        </p:blipFill>
        <p:spPr>
          <a:xfrm>
            <a:off x="5808600" y="1374840"/>
            <a:ext cx="2971800" cy="225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8"/>
          <p:cNvPicPr/>
          <p:nvPr/>
        </p:nvPicPr>
        <p:blipFill>
          <a:blip r:embed="rId3"/>
          <a:stretch/>
        </p:blipFill>
        <p:spPr>
          <a:xfrm>
            <a:off x="6246720" y="3938760"/>
            <a:ext cx="2328840" cy="2417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6"/>
          <p:cNvPicPr/>
          <p:nvPr/>
        </p:nvPicPr>
        <p:blipFill>
          <a:blip r:embed="rId4"/>
          <a:stretch/>
        </p:blipFill>
        <p:spPr>
          <a:xfrm>
            <a:off x="2825640" y="3997440"/>
            <a:ext cx="236232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42"/>
          <p:cNvGrpSpPr/>
          <p:nvPr/>
        </p:nvGrpSpPr>
        <p:grpSpPr>
          <a:xfrm>
            <a:off x="2846880" y="2373480"/>
            <a:ext cx="6131880" cy="2747520"/>
            <a:chOff x="2846880" y="2373480"/>
            <a:chExt cx="6131880" cy="2747520"/>
          </a:xfrm>
        </p:grpSpPr>
        <p:sp>
          <p:nvSpPr>
            <p:cNvPr id="275" name="Rectangle 143"/>
            <p:cNvSpPr/>
            <p:nvPr/>
          </p:nvSpPr>
          <p:spPr>
            <a:xfrm>
              <a:off x="2846880" y="3813480"/>
              <a:ext cx="82080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总星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144"/>
            <p:cNvSpPr/>
            <p:nvPr/>
          </p:nvSpPr>
          <p:spPr>
            <a:xfrm>
              <a:off x="4471200" y="3381480"/>
              <a:ext cx="82080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银河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145"/>
            <p:cNvSpPr/>
            <p:nvPr/>
          </p:nvSpPr>
          <p:spPr>
            <a:xfrm>
              <a:off x="4511880" y="4173840"/>
              <a:ext cx="1034280" cy="9471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河外星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（星系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146"/>
            <p:cNvSpPr/>
            <p:nvPr/>
          </p:nvSpPr>
          <p:spPr>
            <a:xfrm>
              <a:off x="6344280" y="2949840"/>
              <a:ext cx="82080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太阳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147"/>
            <p:cNvSpPr/>
            <p:nvPr/>
          </p:nvSpPr>
          <p:spPr>
            <a:xfrm>
              <a:off x="8149320" y="2373480"/>
              <a:ext cx="82080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地月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48"/>
            <p:cNvSpPr/>
            <p:nvPr/>
          </p:nvSpPr>
          <p:spPr>
            <a:xfrm>
              <a:off x="6353280" y="3525840"/>
              <a:ext cx="820800" cy="9471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其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恒星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149"/>
            <p:cNvSpPr/>
            <p:nvPr/>
          </p:nvSpPr>
          <p:spPr>
            <a:xfrm>
              <a:off x="8157960" y="3094200"/>
              <a:ext cx="820800" cy="9471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其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行星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AutoShape 150"/>
            <p:cNvSpPr/>
            <p:nvPr/>
          </p:nvSpPr>
          <p:spPr>
            <a:xfrm>
              <a:off x="3919680" y="3668760"/>
              <a:ext cx="216000" cy="792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AutoShape 151"/>
            <p:cNvSpPr/>
            <p:nvPr/>
          </p:nvSpPr>
          <p:spPr>
            <a:xfrm>
              <a:off x="5792760" y="3310200"/>
              <a:ext cx="216000" cy="9349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AutoShape 152"/>
            <p:cNvSpPr/>
            <p:nvPr/>
          </p:nvSpPr>
          <p:spPr>
            <a:xfrm>
              <a:off x="7526520" y="2660760"/>
              <a:ext cx="215640" cy="1079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WordArt 2"/>
          <p:cNvSpPr txBox="1"/>
          <p:nvPr/>
        </p:nvSpPr>
        <p:spPr>
          <a:xfrm>
            <a:off x="1825560" y="647640"/>
            <a:ext cx="23875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知识梳理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WordArt 3" descr=""/>
          <p:cNvPicPr/>
          <p:nvPr/>
        </p:nvPicPr>
        <p:blipFill>
          <a:blip r:embed="rId1"/>
          <a:stretch/>
        </p:blipFill>
        <p:spPr>
          <a:xfrm>
            <a:off x="2809800" y="1822320"/>
            <a:ext cx="61390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yinhe"/>
          <p:cNvPicPr/>
          <p:nvPr/>
        </p:nvPicPr>
        <p:blipFill>
          <a:blip r:embed="rId1"/>
          <a:stretch/>
        </p:blipFill>
        <p:spPr>
          <a:xfrm>
            <a:off x="2567160" y="1257480"/>
            <a:ext cx="7127640" cy="519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out"/>
          <p:cNvPicPr/>
          <p:nvPr/>
        </p:nvPicPr>
        <p:blipFill>
          <a:blip r:embed="rId2"/>
          <a:stretch/>
        </p:blipFill>
        <p:spPr>
          <a:xfrm>
            <a:off x="6553080" y="1309680"/>
            <a:ext cx="3095640" cy="733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607280" y="19573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浩瀚的宇宙是什么样子的？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我们每天抬头看到的星星、星云是什么样子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1480" y="3152880"/>
          <a:ext cx="5191200" cy="307800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30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太阳系是四十六亿年前伴随着太阳的形成而形成的。太阳星云由于自身引力的作用而逐渐凝聚，渐渐形成了一个由多个天体按一定规律排列组成的天体系统。太阳系的成员包括一颗恒星、八大行星、至少六十三颗卫星、约一百万颗小行星、无数的彗星和星际物质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WordArt 2"/>
          <p:cNvSpPr txBox="1"/>
          <p:nvPr/>
        </p:nvSpPr>
        <p:spPr>
          <a:xfrm>
            <a:off x="1809720" y="565200"/>
            <a:ext cx="22096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情境引入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809720" y="585720"/>
            <a:ext cx="21114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新知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1936800" y="1268280"/>
            <a:ext cx="435132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从太阳系到银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1990800" y="2305080"/>
            <a:ext cx="8040600" cy="3681000"/>
            <a:chOff x="1990800" y="2305080"/>
            <a:chExt cx="8040600" cy="3681000"/>
          </a:xfrm>
        </p:grpSpPr>
        <p:pic>
          <p:nvPicPr>
            <p:cNvPr id="170" name="Picture 4" descr="005_JPG"/>
            <p:cNvPicPr/>
            <p:nvPr/>
          </p:nvPicPr>
          <p:blipFill>
            <a:blip r:embed="rId1"/>
            <a:stretch/>
          </p:blipFill>
          <p:spPr>
            <a:xfrm>
              <a:off x="1990800" y="2305080"/>
              <a:ext cx="8040600" cy="36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"/>
            <p:cNvSpPr/>
            <p:nvPr/>
          </p:nvSpPr>
          <p:spPr>
            <a:xfrm>
              <a:off x="3097800" y="423612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2845080" y="5038920"/>
              <a:ext cx="507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水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3668400" y="417924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3414600" y="503892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金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4238280" y="4179240"/>
              <a:ext cx="0" cy="688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4871880" y="4063680"/>
              <a:ext cx="0" cy="861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>
              <a:off x="5694120" y="412092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6707520" y="394848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7973640" y="389160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9493920" y="3833640"/>
              <a:ext cx="0" cy="689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3985200" y="5038920"/>
              <a:ext cx="50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616640" y="5032800"/>
              <a:ext cx="507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火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441400" y="481248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木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453360" y="4812480"/>
              <a:ext cx="50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土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720920" y="4580640"/>
              <a:ext cx="507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天王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9239760" y="4580640"/>
              <a:ext cx="506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海王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-1-3天鹅座新星"/>
          <p:cNvPicPr/>
          <p:nvPr/>
        </p:nvPicPr>
        <p:blipFill>
          <a:blip r:embed="rId1"/>
          <a:stretch/>
        </p:blipFill>
        <p:spPr>
          <a:xfrm>
            <a:off x="2560680" y="1733400"/>
            <a:ext cx="2247840" cy="1438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2583000" y="851040"/>
            <a:ext cx="65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太阳系最近的恒星“比邻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53200" y="2266920"/>
            <a:ext cx="420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距离地球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光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614680" y="3600360"/>
            <a:ext cx="64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光年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.y.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光一年走过的距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836880" y="47624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720880" y="4299120"/>
            <a:ext cx="50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l.y=9.4605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233440" y="1020600"/>
            <a:ext cx="752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，人们观测到的类似于银河系的天体系统，就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个左右。这些天体系统被称为星系。所有的星系构成了广阔无垠的宇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276640" y="4238640"/>
            <a:ext cx="11746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月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484440" y="4475160"/>
            <a:ext cx="733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284720" y="4238640"/>
            <a:ext cx="13492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太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5675400" y="4475160"/>
            <a:ext cx="76176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27880" y="4245480"/>
            <a:ext cx="15159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银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8066160" y="4470480"/>
            <a:ext cx="638280" cy="46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8750160" y="4245480"/>
            <a:ext cx="1238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宇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SOLASY~1"/>
          <p:cNvPicPr/>
          <p:nvPr/>
        </p:nvPicPr>
        <p:blipFill>
          <a:blip r:embed="rId1"/>
          <a:stretch/>
        </p:blipFill>
        <p:spPr>
          <a:xfrm>
            <a:off x="2496960" y="674640"/>
            <a:ext cx="7320240" cy="54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12724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09420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金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06080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地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02920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火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94360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木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934320" y="194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土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8001000" y="1949400"/>
            <a:ext cx="53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天王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615600" y="192240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海王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2279160" y="831960"/>
            <a:ext cx="2971800" cy="1024920"/>
            <a:chOff x="2279160" y="831960"/>
            <a:chExt cx="2971800" cy="1024920"/>
          </a:xfrm>
        </p:grpSpPr>
        <p:sp>
          <p:nvSpPr>
            <p:cNvPr id="211" name="AutoShape 12"/>
            <p:cNvSpPr/>
            <p:nvPr/>
          </p:nvSpPr>
          <p:spPr>
            <a:xfrm rot="5400000">
              <a:off x="3612600" y="218520"/>
              <a:ext cx="304560" cy="29718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8"/>
                  </a:lnTo>
                  <a:cubicBezTo>
                    <a:pt x="10800" y="9888"/>
                    <a:pt x="5400" y="10788"/>
                    <a:pt x="0" y="10788"/>
                  </a:cubicBezTo>
                  <a:cubicBezTo>
                    <a:pt x="5400" y="10788"/>
                    <a:pt x="10800" y="11688"/>
                    <a:pt x="10800" y="1258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2782800" y="831960"/>
              <a:ext cx="187308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类地行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14"/>
          <p:cNvGrpSpPr/>
          <p:nvPr/>
        </p:nvGrpSpPr>
        <p:grpSpPr>
          <a:xfrm>
            <a:off x="6031080" y="831960"/>
            <a:ext cx="1433520" cy="1008000"/>
            <a:chOff x="6031080" y="831960"/>
            <a:chExt cx="1433520" cy="1008000"/>
          </a:xfrm>
        </p:grpSpPr>
        <p:sp>
          <p:nvSpPr>
            <p:cNvPr id="214" name="AutoShape 15"/>
            <p:cNvSpPr/>
            <p:nvPr/>
          </p:nvSpPr>
          <p:spPr>
            <a:xfrm flipH="1" flipV="1" rot="16200000">
              <a:off x="6548760" y="1154160"/>
              <a:ext cx="304560" cy="1067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290"/>
                  </a:lnTo>
                  <a:cubicBezTo>
                    <a:pt x="10800" y="10190"/>
                    <a:pt x="5400" y="11089"/>
                    <a:pt x="0" y="11089"/>
                  </a:cubicBezTo>
                  <a:cubicBezTo>
                    <a:pt x="5400" y="11089"/>
                    <a:pt x="10800" y="11989"/>
                    <a:pt x="10800" y="1288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6031080" y="831960"/>
              <a:ext cx="143352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巨行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8047080" y="831960"/>
            <a:ext cx="1944720" cy="1024920"/>
            <a:chOff x="8047080" y="831960"/>
            <a:chExt cx="1944720" cy="1024920"/>
          </a:xfrm>
        </p:grpSpPr>
        <p:sp>
          <p:nvSpPr>
            <p:cNvPr id="217" name="AutoShape 18"/>
            <p:cNvSpPr/>
            <p:nvPr/>
          </p:nvSpPr>
          <p:spPr>
            <a:xfrm flipV="1" rot="5400000">
              <a:off x="8805960" y="866520"/>
              <a:ext cx="304560" cy="16761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980"/>
                  </a:lnTo>
                  <a:cubicBezTo>
                    <a:pt x="10800" y="9880"/>
                    <a:pt x="5400" y="10779"/>
                    <a:pt x="0" y="10779"/>
                  </a:cubicBezTo>
                  <a:cubicBezTo>
                    <a:pt x="5400" y="10779"/>
                    <a:pt x="10800" y="11679"/>
                    <a:pt x="10800" y="1257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8047080" y="831960"/>
              <a:ext cx="1944720" cy="520560"/>
            </a:xfrm>
            <a:prstGeom prst="rect">
              <a:avLst/>
            </a:prstGeom>
            <a:noFill/>
            <a:ln cap="rnd" w="284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远日行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20"/>
          <p:cNvSpPr/>
          <p:nvPr/>
        </p:nvSpPr>
        <p:spPr>
          <a:xfrm>
            <a:off x="3067200" y="437832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八大行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2058840" y="4378320"/>
            <a:ext cx="11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太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2"/>
          <p:cNvGrpSpPr/>
          <p:nvPr/>
        </p:nvGrpSpPr>
        <p:grpSpPr>
          <a:xfrm>
            <a:off x="4764240" y="4389480"/>
            <a:ext cx="5847480" cy="398880"/>
            <a:chOff x="4764240" y="4389480"/>
            <a:chExt cx="5847480" cy="398880"/>
          </a:xfrm>
        </p:grpSpPr>
        <p:sp>
          <p:nvSpPr>
            <p:cNvPr id="222" name="Text Box 23"/>
            <p:cNvSpPr/>
            <p:nvPr/>
          </p:nvSpPr>
          <p:spPr>
            <a:xfrm>
              <a:off x="4764240" y="4389480"/>
              <a:ext cx="10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彗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Group 24"/>
            <p:cNvGrpSpPr/>
            <p:nvPr/>
          </p:nvGrpSpPr>
          <p:grpSpPr>
            <a:xfrm>
              <a:off x="5705280" y="4389480"/>
              <a:ext cx="4906440" cy="398880"/>
              <a:chOff x="5705280" y="4389480"/>
              <a:chExt cx="4906440" cy="398880"/>
            </a:xfrm>
          </p:grpSpPr>
          <p:sp>
            <p:nvSpPr>
              <p:cNvPr id="224" name="Text Box 25"/>
              <p:cNvSpPr/>
              <p:nvPr/>
            </p:nvSpPr>
            <p:spPr>
              <a:xfrm>
                <a:off x="5705280" y="4389480"/>
                <a:ext cx="99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流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Text Box 26"/>
              <p:cNvSpPr/>
              <p:nvPr/>
            </p:nvSpPr>
            <p:spPr>
              <a:xfrm>
                <a:off x="6577920" y="4389480"/>
                <a:ext cx="108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卫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Text Box 27"/>
              <p:cNvSpPr/>
              <p:nvPr/>
            </p:nvSpPr>
            <p:spPr>
              <a:xfrm>
                <a:off x="7518960" y="4389480"/>
                <a:ext cx="135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小行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Text Box 28"/>
              <p:cNvSpPr/>
              <p:nvPr/>
            </p:nvSpPr>
            <p:spPr>
              <a:xfrm>
                <a:off x="8830800" y="4389480"/>
                <a:ext cx="178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Times New Roman"/>
                  </a:rPr>
                  <a:t>星际物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8" name="Text Box 29"/>
          <p:cNvSpPr/>
          <p:nvPr/>
        </p:nvSpPr>
        <p:spPr>
          <a:xfrm>
            <a:off x="4856040" y="56275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太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30"/>
          <p:cNvGrpSpPr/>
          <p:nvPr/>
        </p:nvGrpSpPr>
        <p:grpSpPr>
          <a:xfrm>
            <a:off x="2230560" y="4789440"/>
            <a:ext cx="7632720" cy="917280"/>
            <a:chOff x="2230560" y="4789440"/>
            <a:chExt cx="7632720" cy="917280"/>
          </a:xfrm>
        </p:grpSpPr>
        <p:sp>
          <p:nvSpPr>
            <p:cNvPr id="230" name="Line 31"/>
            <p:cNvSpPr/>
            <p:nvPr/>
          </p:nvSpPr>
          <p:spPr>
            <a:xfrm>
              <a:off x="2230560" y="4789440"/>
              <a:ext cx="0" cy="455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9863280" y="4795560"/>
              <a:ext cx="0" cy="4557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H="1">
              <a:off x="2230560" y="5251320"/>
              <a:ext cx="763272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>
              <a:off x="5973840" y="5251320"/>
              <a:ext cx="0" cy="455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5"/>
          <p:cNvGrpSpPr/>
          <p:nvPr/>
        </p:nvGrpSpPr>
        <p:grpSpPr>
          <a:xfrm>
            <a:off x="2208240" y="3406680"/>
            <a:ext cx="7775280" cy="1008000"/>
            <a:chOff x="2208240" y="3406680"/>
            <a:chExt cx="7775280" cy="1008000"/>
          </a:xfrm>
        </p:grpSpPr>
        <p:sp>
          <p:nvSpPr>
            <p:cNvPr id="235" name="Line 36"/>
            <p:cNvSpPr/>
            <p:nvPr/>
          </p:nvSpPr>
          <p:spPr>
            <a:xfrm>
              <a:off x="2208240" y="34066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7"/>
            <p:cNvSpPr/>
            <p:nvPr/>
          </p:nvSpPr>
          <p:spPr>
            <a:xfrm>
              <a:off x="9983520" y="3414600"/>
              <a:ext cx="0" cy="49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38"/>
            <p:cNvSpPr/>
            <p:nvPr/>
          </p:nvSpPr>
          <p:spPr>
            <a:xfrm flipH="1">
              <a:off x="2208240" y="3913200"/>
              <a:ext cx="777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39"/>
            <p:cNvSpPr/>
            <p:nvPr/>
          </p:nvSpPr>
          <p:spPr>
            <a:xfrm>
              <a:off x="3747960" y="391320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从不同角度看到的银河系示意图3-47-1"/>
          <p:cNvPicPr/>
          <p:nvPr/>
        </p:nvPicPr>
        <p:blipFill>
          <a:blip r:embed="rId1"/>
          <a:stretch/>
        </p:blipFill>
        <p:spPr>
          <a:xfrm>
            <a:off x="2173320" y="706320"/>
            <a:ext cx="393048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从不同角度看到的银河系示意图3-47"/>
          <p:cNvPicPr/>
          <p:nvPr/>
        </p:nvPicPr>
        <p:blipFill>
          <a:blip r:embed="rId2"/>
          <a:stretch/>
        </p:blipFill>
        <p:spPr>
          <a:xfrm>
            <a:off x="6167520" y="704880"/>
            <a:ext cx="3840120" cy="3806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143160" y="39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侧 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824960" y="3933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俯 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2382840" y="46004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面两幅图中，银河系各呈什么形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382840" y="51721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图中的光点是什么？红点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382840" y="57434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太阳系是银河系的中心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299280" y="809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太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物理备课大师【全免费】</dc:creator>
  <dc:description>物理备课大师【全免费】</dc:description>
  <dc:language>en-US</dc:language>
  <cp:lastModifiedBy>Windows 用户</cp:lastModifiedBy>
  <dcterms:modified xsi:type="dcterms:W3CDTF">2017-12-23T00:36:01Z</dcterms:modified>
  <cp:revision>3</cp:revision>
  <dc:subject/>
  <dc:title>物理备课大师【全免费】</dc:title>
</cp:coreProperties>
</file>